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1735F-696B-48D0-A825-BA8E1F9EC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kes no sense without caption in boo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kes no sense without caption in boo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kes no sense without caption in boo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ho is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an Hatfield and Ken Pinzk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kes no sense without caption in boo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kes no sense without caption in boo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kes no sense without caption in boo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kes no sense without caption in boo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kes no sense without caption in boo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kes no sense without caption in boo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kes no sense without caption in boo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kes no sense without caption in boo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kes no sense without caption in boo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kes no sense without caption in boo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kes no sense without caption in boo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kes no sense without caption in boo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kes no sense without caption in boo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kes no sense without caption in boo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kes no sense without caption in boo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kes no sense without caption in boo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2514600" y="1087560"/>
            <a:ext cx="4714560" cy="5236200"/>
            <a:chOff x="2514600" y="1087560"/>
            <a:chExt cx="4714560" cy="5236200"/>
          </a:xfrm>
        </p:grpSpPr>
        <p:sp>
          <p:nvSpPr>
            <p:cNvPr id="86" name=""/>
            <p:cNvSpPr/>
            <p:nvPr/>
          </p:nvSpPr>
          <p:spPr>
            <a:xfrm>
              <a:off x="3098520" y="5243040"/>
              <a:ext cx="3362040" cy="10807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87" name="" descr=""/>
            <p:cNvPicPr/>
            <p:nvPr/>
          </p:nvPicPr>
          <p:blipFill>
            <a:blip r:embed="rId1"/>
            <a:stretch/>
          </p:blipFill>
          <p:spPr>
            <a:xfrm>
              <a:off x="2514600" y="1087560"/>
              <a:ext cx="4714560" cy="471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8960" y="1295280"/>
            <a:ext cx="71247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Lucida Bright"/>
              </a:rPr>
              <a:t>Prentice</a:t>
            </a:r>
            <a:r>
              <a:rPr b="0" i="1" lang="en-US" sz="4800" spc="-1" strike="noStrike">
                <a:solidFill>
                  <a:srgbClr val="000000"/>
                </a:solidFill>
                <a:latin typeface="Lucida Bright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Lucida Bright"/>
              </a:rPr>
              <a:t>Hall</a:t>
            </a: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EARTH SCIENCE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28480" y="518148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arbuck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utgen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41120" y="534816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Wingdings"/>
                <a:ea typeface="Wingdings"/>
              </a:rPr>
              <a:t>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5105520" y="-360"/>
            <a:ext cx="4068360" cy="3305160"/>
            <a:chOff x="5105520" y="-360"/>
            <a:chExt cx="4068360" cy="3305160"/>
          </a:xfrm>
        </p:grpSpPr>
        <p:sp>
          <p:nvSpPr>
            <p:cNvPr id="92" name=""/>
            <p:cNvSpPr/>
            <p:nvPr/>
          </p:nvSpPr>
          <p:spPr>
            <a:xfrm rot="10800000">
              <a:off x="5119200" y="-360"/>
              <a:ext cx="4054680" cy="3305160"/>
            </a:xfrm>
            <a:custGeom>
              <a:avLst/>
              <a:gdLst/>
              <a:ahLst/>
              <a:rect l="l" t="t" r="r" b="b"/>
              <a:pathLst>
                <a:path w="2554" h="2082">
                  <a:moveTo>
                    <a:pt x="9" y="0"/>
                  </a:moveTo>
                  <a:cubicBezTo>
                    <a:pt x="9" y="82"/>
                    <a:pt x="0" y="1927"/>
                    <a:pt x="9" y="2073"/>
                  </a:cubicBezTo>
                  <a:cubicBezTo>
                    <a:pt x="986" y="2073"/>
                    <a:pt x="2436" y="2082"/>
                    <a:pt x="2554" y="2073"/>
                  </a:cubicBezTo>
                  <a:cubicBezTo>
                    <a:pt x="409" y="1809"/>
                    <a:pt x="9" y="391"/>
                    <a:pt x="9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0800000">
              <a:off x="5105520" y="14040"/>
              <a:ext cx="4054320" cy="1342800"/>
            </a:xfrm>
            <a:custGeom>
              <a:avLst/>
              <a:gdLst/>
              <a:ahLst/>
              <a:rect l="l" t="t" r="r" b="b"/>
              <a:pathLst>
                <a:path w="2554" h="2082">
                  <a:moveTo>
                    <a:pt x="9" y="0"/>
                  </a:moveTo>
                  <a:cubicBezTo>
                    <a:pt x="9" y="82"/>
                    <a:pt x="0" y="1927"/>
                    <a:pt x="9" y="2073"/>
                  </a:cubicBezTo>
                  <a:cubicBezTo>
                    <a:pt x="986" y="2073"/>
                    <a:pt x="2436" y="2082"/>
                    <a:pt x="2554" y="2073"/>
                  </a:cubicBezTo>
                  <a:cubicBezTo>
                    <a:pt x="409" y="1809"/>
                    <a:pt x="9" y="391"/>
                    <a:pt x="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0008"/>
                </a:gs>
                <a:gs pos="100000">
                  <a:srgbClr val="fe3d4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0" y="3546360"/>
            <a:ext cx="4054320" cy="3311640"/>
            <a:chOff x="0" y="3546360"/>
            <a:chExt cx="4054320" cy="3311640"/>
          </a:xfrm>
        </p:grpSpPr>
        <p:sp>
          <p:nvSpPr>
            <p:cNvPr id="95" name=""/>
            <p:cNvSpPr/>
            <p:nvPr/>
          </p:nvSpPr>
          <p:spPr>
            <a:xfrm>
              <a:off x="0" y="3546360"/>
              <a:ext cx="4054320" cy="3305160"/>
            </a:xfrm>
            <a:custGeom>
              <a:avLst/>
              <a:gdLst/>
              <a:ahLst/>
              <a:rect l="l" t="t" r="r" b="b"/>
              <a:pathLst>
                <a:path w="2554" h="2082">
                  <a:moveTo>
                    <a:pt x="9" y="0"/>
                  </a:moveTo>
                  <a:cubicBezTo>
                    <a:pt x="9" y="82"/>
                    <a:pt x="0" y="1927"/>
                    <a:pt x="9" y="2073"/>
                  </a:cubicBezTo>
                  <a:cubicBezTo>
                    <a:pt x="986" y="2073"/>
                    <a:pt x="2436" y="2082"/>
                    <a:pt x="2554" y="2073"/>
                  </a:cubicBezTo>
                  <a:cubicBezTo>
                    <a:pt x="409" y="1809"/>
                    <a:pt x="9" y="391"/>
                    <a:pt x="9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5514840"/>
              <a:ext cx="4054320" cy="1343160"/>
            </a:xfrm>
            <a:custGeom>
              <a:avLst/>
              <a:gdLst/>
              <a:ahLst/>
              <a:rect l="l" t="t" r="r" b="b"/>
              <a:pathLst>
                <a:path w="2554" h="2082">
                  <a:moveTo>
                    <a:pt x="9" y="0"/>
                  </a:moveTo>
                  <a:cubicBezTo>
                    <a:pt x="9" y="82"/>
                    <a:pt x="0" y="1927"/>
                    <a:pt x="9" y="2073"/>
                  </a:cubicBezTo>
                  <a:cubicBezTo>
                    <a:pt x="986" y="2073"/>
                    <a:pt x="2436" y="2082"/>
                    <a:pt x="2554" y="2073"/>
                  </a:cubicBezTo>
                  <a:cubicBezTo>
                    <a:pt x="409" y="1809"/>
                    <a:pt x="9" y="391"/>
                    <a:pt x="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e3d43"/>
                </a:gs>
                <a:gs pos="100000">
                  <a:srgbClr val="ff00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-4680" y="0"/>
            <a:ext cx="9159840" cy="6629400"/>
            <a:chOff x="-4680" y="0"/>
            <a:chExt cx="9159840" cy="6629400"/>
          </a:xfrm>
        </p:grpSpPr>
        <p:grpSp>
          <p:nvGrpSpPr>
            <p:cNvPr id="198" name=""/>
            <p:cNvGrpSpPr/>
            <p:nvPr/>
          </p:nvGrpSpPr>
          <p:grpSpPr>
            <a:xfrm>
              <a:off x="316080" y="1523880"/>
              <a:ext cx="8534160" cy="5105520"/>
              <a:chOff x="316080" y="1523880"/>
              <a:chExt cx="8534160" cy="5105520"/>
            </a:xfrm>
          </p:grpSpPr>
          <p:sp>
            <p:nvSpPr>
              <p:cNvPr id="199" name=""/>
              <p:cNvSpPr/>
              <p:nvPr/>
            </p:nvSpPr>
            <p:spPr>
              <a:xfrm>
                <a:off x="31608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019880" y="1638360"/>
                <a:ext cx="6301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The Birth of Modern Astronomy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-4680" y="0"/>
              <a:ext cx="9159840" cy="1430280"/>
              <a:chOff x="-4680" y="0"/>
              <a:chExt cx="9159840" cy="1430280"/>
            </a:xfrm>
          </p:grpSpPr>
          <p:sp>
            <p:nvSpPr>
              <p:cNvPr id="202" name=""/>
              <p:cNvSpPr/>
              <p:nvPr/>
            </p:nvSpPr>
            <p:spPr>
              <a:xfrm>
                <a:off x="180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3" name=""/>
              <p:cNvGrpSpPr/>
              <p:nvPr/>
            </p:nvGrpSpPr>
            <p:grpSpPr>
              <a:xfrm>
                <a:off x="-4680" y="0"/>
                <a:ext cx="9159840" cy="136440"/>
                <a:chOff x="-4680" y="0"/>
                <a:chExt cx="9159840" cy="13644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-468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-468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3240" y="1219320"/>
                <a:ext cx="9144000" cy="210960"/>
                <a:chOff x="3240" y="1219320"/>
                <a:chExt cx="9144000" cy="21096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324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24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2.1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Early Astronomy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260360" y="2163600"/>
            <a:ext cx="76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icolaus Copernic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1736640" y="2635200"/>
            <a:ext cx="71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pernicus concluded that Earth is a planet. He proposed a model of the solar system with the sun at the cen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"/>
          <p:cNvGrpSpPr/>
          <p:nvPr/>
        </p:nvGrpSpPr>
        <p:grpSpPr>
          <a:xfrm>
            <a:off x="-4680" y="0"/>
            <a:ext cx="9159840" cy="6629400"/>
            <a:chOff x="-4680" y="0"/>
            <a:chExt cx="9159840" cy="6629400"/>
          </a:xfrm>
        </p:grpSpPr>
        <p:grpSp>
          <p:nvGrpSpPr>
            <p:cNvPr id="213" name=""/>
            <p:cNvGrpSpPr/>
            <p:nvPr/>
          </p:nvGrpSpPr>
          <p:grpSpPr>
            <a:xfrm>
              <a:off x="316080" y="1523880"/>
              <a:ext cx="8534160" cy="5105520"/>
              <a:chOff x="316080" y="1523880"/>
              <a:chExt cx="8534160" cy="5105520"/>
            </a:xfrm>
          </p:grpSpPr>
          <p:sp>
            <p:nvSpPr>
              <p:cNvPr id="214" name=""/>
              <p:cNvSpPr/>
              <p:nvPr/>
            </p:nvSpPr>
            <p:spPr>
              <a:xfrm>
                <a:off x="31608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019880" y="1638360"/>
                <a:ext cx="6301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The Birth of Modern Astronomy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-4680" y="0"/>
              <a:ext cx="9159840" cy="1430280"/>
              <a:chOff x="-4680" y="0"/>
              <a:chExt cx="9159840" cy="1430280"/>
            </a:xfrm>
          </p:grpSpPr>
          <p:sp>
            <p:nvSpPr>
              <p:cNvPr id="217" name=""/>
              <p:cNvSpPr/>
              <p:nvPr/>
            </p:nvSpPr>
            <p:spPr>
              <a:xfrm>
                <a:off x="180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18" name=""/>
              <p:cNvGrpSpPr/>
              <p:nvPr/>
            </p:nvGrpSpPr>
            <p:grpSpPr>
              <a:xfrm>
                <a:off x="-4680" y="0"/>
                <a:ext cx="9159840" cy="136440"/>
                <a:chOff x="-4680" y="0"/>
                <a:chExt cx="9159840" cy="13644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-468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-468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3240" y="1219320"/>
                <a:ext cx="9144000" cy="210960"/>
                <a:chOff x="3240" y="1219320"/>
                <a:chExt cx="9144000" cy="21096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324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324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2.1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 Early Astronomy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260360" y="2151000"/>
            <a:ext cx="76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ycho Brah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1736640" y="2635200"/>
            <a:ext cx="706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cho Brahe designed and built instruments to measure the locations of the heavenly bodie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rahe’s observations, especially of Mars, were far more precise than any made previous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"/>
          <p:cNvGrpSpPr/>
          <p:nvPr/>
        </p:nvGrpSpPr>
        <p:grpSpPr>
          <a:xfrm>
            <a:off x="-4680" y="0"/>
            <a:ext cx="9159840" cy="6629400"/>
            <a:chOff x="-4680" y="0"/>
            <a:chExt cx="9159840" cy="6629400"/>
          </a:xfrm>
        </p:grpSpPr>
        <p:grpSp>
          <p:nvGrpSpPr>
            <p:cNvPr id="228" name=""/>
            <p:cNvGrpSpPr/>
            <p:nvPr/>
          </p:nvGrpSpPr>
          <p:grpSpPr>
            <a:xfrm>
              <a:off x="316080" y="1523880"/>
              <a:ext cx="8534160" cy="5105520"/>
              <a:chOff x="316080" y="1523880"/>
              <a:chExt cx="8534160" cy="5105520"/>
            </a:xfrm>
          </p:grpSpPr>
          <p:sp>
            <p:nvSpPr>
              <p:cNvPr id="229" name=""/>
              <p:cNvSpPr/>
              <p:nvPr/>
            </p:nvSpPr>
            <p:spPr>
              <a:xfrm>
                <a:off x="31608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019880" y="1638360"/>
                <a:ext cx="6301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The Birth of Modern Astronomy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-4680" y="0"/>
              <a:ext cx="9159840" cy="1430280"/>
              <a:chOff x="-4680" y="0"/>
              <a:chExt cx="9159840" cy="1430280"/>
            </a:xfrm>
          </p:grpSpPr>
          <p:sp>
            <p:nvSpPr>
              <p:cNvPr id="232" name=""/>
              <p:cNvSpPr/>
              <p:nvPr/>
            </p:nvSpPr>
            <p:spPr>
              <a:xfrm>
                <a:off x="180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33" name=""/>
              <p:cNvGrpSpPr/>
              <p:nvPr/>
            </p:nvGrpSpPr>
            <p:grpSpPr>
              <a:xfrm>
                <a:off x="-4680" y="0"/>
                <a:ext cx="9159840" cy="136440"/>
                <a:chOff x="-4680" y="0"/>
                <a:chExt cx="9159840" cy="13644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-468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-468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3240" y="1219320"/>
                <a:ext cx="9144000" cy="210960"/>
                <a:chOff x="3240" y="1219320"/>
                <a:chExt cx="9144000" cy="21096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324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4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2.1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Early Astronomy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260360" y="2163600"/>
            <a:ext cx="76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Johannes Ke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1736640" y="2635200"/>
            <a:ext cx="74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epler discovered three laws of planetary mo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"/>
          <p:cNvSpPr/>
          <p:nvPr/>
        </p:nvSpPr>
        <p:spPr>
          <a:xfrm>
            <a:off x="1992240" y="3060720"/>
            <a:ext cx="68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rbits of the planets are elliptic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1992240" y="3489480"/>
            <a:ext cx="683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lanets revolve around the sun at varying spe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"/>
          <p:cNvSpPr/>
          <p:nvPr/>
        </p:nvSpPr>
        <p:spPr>
          <a:xfrm>
            <a:off x="1992240" y="4260960"/>
            <a:ext cx="667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is a proportional relationship between a planet’s orbital period and its distance to the su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"/>
          <p:cNvGrpSpPr/>
          <p:nvPr/>
        </p:nvGrpSpPr>
        <p:grpSpPr>
          <a:xfrm>
            <a:off x="-4680" y="0"/>
            <a:ext cx="9159840" cy="6629400"/>
            <a:chOff x="-4680" y="0"/>
            <a:chExt cx="9159840" cy="6629400"/>
          </a:xfrm>
        </p:grpSpPr>
        <p:grpSp>
          <p:nvGrpSpPr>
            <p:cNvPr id="246" name=""/>
            <p:cNvGrpSpPr/>
            <p:nvPr/>
          </p:nvGrpSpPr>
          <p:grpSpPr>
            <a:xfrm>
              <a:off x="316080" y="1523880"/>
              <a:ext cx="8534160" cy="5105520"/>
              <a:chOff x="316080" y="1523880"/>
              <a:chExt cx="8534160" cy="5105520"/>
            </a:xfrm>
          </p:grpSpPr>
          <p:sp>
            <p:nvSpPr>
              <p:cNvPr id="247" name=""/>
              <p:cNvSpPr/>
              <p:nvPr/>
            </p:nvSpPr>
            <p:spPr>
              <a:xfrm>
                <a:off x="31608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019880" y="1638360"/>
                <a:ext cx="6301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The Birth of Modern Astronomy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-4680" y="0"/>
              <a:ext cx="9159840" cy="1430280"/>
              <a:chOff x="-4680" y="0"/>
              <a:chExt cx="9159840" cy="1430280"/>
            </a:xfrm>
          </p:grpSpPr>
          <p:sp>
            <p:nvSpPr>
              <p:cNvPr id="250" name=""/>
              <p:cNvSpPr/>
              <p:nvPr/>
            </p:nvSpPr>
            <p:spPr>
              <a:xfrm>
                <a:off x="180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51" name=""/>
              <p:cNvGrpSpPr/>
              <p:nvPr/>
            </p:nvGrpSpPr>
            <p:grpSpPr>
              <a:xfrm>
                <a:off x="-4680" y="0"/>
                <a:ext cx="9159840" cy="136440"/>
                <a:chOff x="-4680" y="0"/>
                <a:chExt cx="9159840" cy="13644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-468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-468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3240" y="1219320"/>
                <a:ext cx="9144000" cy="210960"/>
                <a:chOff x="3240" y="1219320"/>
                <a:chExt cx="9144000" cy="21096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324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324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2.1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 Early Astronomy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260360" y="2163600"/>
            <a:ext cx="76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Johannes Ke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"/>
          <p:cNvSpPr/>
          <p:nvPr/>
        </p:nvSpPr>
        <p:spPr>
          <a:xfrm>
            <a:off x="1736640" y="2646360"/>
            <a:ext cx="71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lip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n oval-shap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"/>
          <p:cNvSpPr/>
          <p:nvPr/>
        </p:nvSpPr>
        <p:spPr>
          <a:xfrm>
            <a:off x="1736640" y="3054240"/>
            <a:ext cx="710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stronomical unit (AU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average distance between Earth and the sun; it is about 150 million kilome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"/>
          <p:cNvGrpSpPr/>
          <p:nvPr/>
        </p:nvGrpSpPr>
        <p:grpSpPr>
          <a:xfrm>
            <a:off x="0" y="0"/>
            <a:ext cx="9159840" cy="1430280"/>
            <a:chOff x="0" y="0"/>
            <a:chExt cx="9159840" cy="1430280"/>
          </a:xfrm>
        </p:grpSpPr>
        <p:sp>
          <p:nvSpPr>
            <p:cNvPr id="262" name=""/>
            <p:cNvSpPr/>
            <p:nvPr/>
          </p:nvSpPr>
          <p:spPr>
            <a:xfrm>
              <a:off x="648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0" y="0"/>
              <a:ext cx="9159840" cy="136440"/>
              <a:chOff x="0" y="0"/>
              <a:chExt cx="9159840" cy="136440"/>
            </a:xfrm>
          </p:grpSpPr>
          <p:sp>
            <p:nvSpPr>
              <p:cNvPr id="264" name=""/>
              <p:cNvSpPr/>
              <p:nvPr/>
            </p:nvSpPr>
            <p:spPr>
              <a:xfrm>
                <a:off x="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7920" y="1219320"/>
              <a:ext cx="9144000" cy="210960"/>
              <a:chOff x="7920" y="1219320"/>
              <a:chExt cx="9144000" cy="210960"/>
            </a:xfrm>
          </p:grpSpPr>
          <p:sp>
            <p:nvSpPr>
              <p:cNvPr id="267" name=""/>
              <p:cNvSpPr/>
              <p:nvPr/>
            </p:nvSpPr>
            <p:spPr>
              <a:xfrm>
                <a:off x="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23184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2979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lanet Revolu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914400" y="1568520"/>
            <a:ext cx="7315200" cy="5092560"/>
            <a:chOff x="914400" y="1568520"/>
            <a:chExt cx="7315200" cy="5092560"/>
          </a:xfrm>
        </p:grpSpPr>
        <p:sp>
          <p:nvSpPr>
            <p:cNvPr id="271" name=""/>
            <p:cNvSpPr/>
            <p:nvPr/>
          </p:nvSpPr>
          <p:spPr>
            <a:xfrm>
              <a:off x="914400" y="1568520"/>
              <a:ext cx="7315200" cy="5092560"/>
            </a:xfrm>
            <a:prstGeom prst="roundRect">
              <a:avLst>
                <a:gd name="adj" fmla="val 2213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272" name="" descr=""/>
            <p:cNvPicPr/>
            <p:nvPr/>
          </p:nvPicPr>
          <p:blipFill>
            <a:blip r:embed="rId1"/>
            <a:stretch/>
          </p:blipFill>
          <p:spPr>
            <a:xfrm>
              <a:off x="1281240" y="1882800"/>
              <a:ext cx="6583320" cy="4465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-4680" y="0"/>
            <a:ext cx="9159840" cy="6629400"/>
            <a:chOff x="-4680" y="0"/>
            <a:chExt cx="9159840" cy="6629400"/>
          </a:xfrm>
        </p:grpSpPr>
        <p:grpSp>
          <p:nvGrpSpPr>
            <p:cNvPr id="274" name=""/>
            <p:cNvGrpSpPr/>
            <p:nvPr/>
          </p:nvGrpSpPr>
          <p:grpSpPr>
            <a:xfrm>
              <a:off x="316080" y="1523880"/>
              <a:ext cx="8534160" cy="5105520"/>
              <a:chOff x="316080" y="1523880"/>
              <a:chExt cx="8534160" cy="5105520"/>
            </a:xfrm>
          </p:grpSpPr>
          <p:sp>
            <p:nvSpPr>
              <p:cNvPr id="275" name=""/>
              <p:cNvSpPr/>
              <p:nvPr/>
            </p:nvSpPr>
            <p:spPr>
              <a:xfrm>
                <a:off x="31608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019880" y="1638360"/>
                <a:ext cx="6301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The Birth of Modern Astronomy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-4680" y="0"/>
              <a:ext cx="9159840" cy="1430280"/>
              <a:chOff x="-4680" y="0"/>
              <a:chExt cx="9159840" cy="1430280"/>
            </a:xfrm>
          </p:grpSpPr>
          <p:sp>
            <p:nvSpPr>
              <p:cNvPr id="278" name=""/>
              <p:cNvSpPr/>
              <p:nvPr/>
            </p:nvSpPr>
            <p:spPr>
              <a:xfrm>
                <a:off x="180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79" name=""/>
              <p:cNvGrpSpPr/>
              <p:nvPr/>
            </p:nvGrpSpPr>
            <p:grpSpPr>
              <a:xfrm>
                <a:off x="-4680" y="0"/>
                <a:ext cx="9159840" cy="136440"/>
                <a:chOff x="-4680" y="0"/>
                <a:chExt cx="9159840" cy="13644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-468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-468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3240" y="1219320"/>
                <a:ext cx="9144000" cy="210960"/>
                <a:chOff x="3240" y="1219320"/>
                <a:chExt cx="9144000" cy="21096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324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324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2.1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Early Astronomy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60360" y="2163600"/>
            <a:ext cx="76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Galileo Galile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"/>
          <p:cNvSpPr/>
          <p:nvPr/>
        </p:nvSpPr>
        <p:spPr>
          <a:xfrm>
            <a:off x="1736640" y="2624040"/>
            <a:ext cx="71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alileo’s most important contributions were his descriptions of the behavior of moving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"/>
          <p:cNvSpPr/>
          <p:nvPr/>
        </p:nvSpPr>
        <p:spPr>
          <a:xfrm>
            <a:off x="1736640" y="3398760"/>
            <a:ext cx="71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e developed his own telescope and made important discoverie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"/>
          <p:cNvSpPr/>
          <p:nvPr/>
        </p:nvSpPr>
        <p:spPr>
          <a:xfrm>
            <a:off x="1992240" y="4184640"/>
            <a:ext cx="6873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Four satellites, or moons, orbit Jupiter. 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"/>
          <p:cNvSpPr/>
          <p:nvPr/>
        </p:nvSpPr>
        <p:spPr>
          <a:xfrm>
            <a:off x="1992240" y="4603680"/>
            <a:ext cx="6873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Planets are circular disks, not just points of light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"/>
          <p:cNvSpPr/>
          <p:nvPr/>
        </p:nvSpPr>
        <p:spPr>
          <a:xfrm>
            <a:off x="1992240" y="5011560"/>
            <a:ext cx="6886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Venus has phases just like the moon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"/>
          <p:cNvSpPr/>
          <p:nvPr/>
        </p:nvSpPr>
        <p:spPr>
          <a:xfrm>
            <a:off x="1992240" y="5440320"/>
            <a:ext cx="6886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The moon’s surface is not smooth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"/>
          <p:cNvSpPr/>
          <p:nvPr/>
        </p:nvSpPr>
        <p:spPr>
          <a:xfrm>
            <a:off x="1992240" y="5854680"/>
            <a:ext cx="6886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Times New Roman"/>
              </a:rPr>
              <a:t>The sun has sunspots, or dark regions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"/>
          <p:cNvGrpSpPr/>
          <p:nvPr/>
        </p:nvGrpSpPr>
        <p:grpSpPr>
          <a:xfrm>
            <a:off x="0" y="0"/>
            <a:ext cx="9159840" cy="1430280"/>
            <a:chOff x="0" y="0"/>
            <a:chExt cx="9159840" cy="1430280"/>
          </a:xfrm>
        </p:grpSpPr>
        <p:sp>
          <p:nvSpPr>
            <p:cNvPr id="295" name=""/>
            <p:cNvSpPr/>
            <p:nvPr/>
          </p:nvSpPr>
          <p:spPr>
            <a:xfrm>
              <a:off x="648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0" y="0"/>
              <a:ext cx="9159840" cy="136440"/>
              <a:chOff x="0" y="0"/>
              <a:chExt cx="9159840" cy="136440"/>
            </a:xfrm>
          </p:grpSpPr>
          <p:sp>
            <p:nvSpPr>
              <p:cNvPr id="297" name=""/>
              <p:cNvSpPr/>
              <p:nvPr/>
            </p:nvSpPr>
            <p:spPr>
              <a:xfrm>
                <a:off x="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7920" y="1219320"/>
              <a:ext cx="9144000" cy="210960"/>
              <a:chOff x="7920" y="1219320"/>
              <a:chExt cx="9144000" cy="210960"/>
            </a:xfrm>
          </p:grpSpPr>
          <p:sp>
            <p:nvSpPr>
              <p:cNvPr id="300" name=""/>
              <p:cNvSpPr/>
              <p:nvPr/>
            </p:nvSpPr>
            <p:spPr>
              <a:xfrm>
                <a:off x="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24444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2979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Solar System Model Evol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336600" y="2583000"/>
            <a:ext cx="8470800" cy="2958840"/>
            <a:chOff x="336600" y="2583000"/>
            <a:chExt cx="8470800" cy="2958840"/>
          </a:xfrm>
        </p:grpSpPr>
        <p:sp>
          <p:nvSpPr>
            <p:cNvPr id="304" name=""/>
            <p:cNvSpPr/>
            <p:nvPr/>
          </p:nvSpPr>
          <p:spPr>
            <a:xfrm>
              <a:off x="336600" y="2583000"/>
              <a:ext cx="8470800" cy="2958840"/>
            </a:xfrm>
            <a:prstGeom prst="roundRect">
              <a:avLst>
                <a:gd name="adj" fmla="val 2213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305" name="" descr=""/>
            <p:cNvPicPr/>
            <p:nvPr/>
          </p:nvPicPr>
          <p:blipFill>
            <a:blip r:embed="rId1"/>
            <a:stretch/>
          </p:blipFill>
          <p:spPr>
            <a:xfrm>
              <a:off x="665280" y="3019320"/>
              <a:ext cx="7813440" cy="2086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"/>
          <p:cNvGrpSpPr/>
          <p:nvPr/>
        </p:nvGrpSpPr>
        <p:grpSpPr>
          <a:xfrm>
            <a:off x="-4680" y="0"/>
            <a:ext cx="9159840" cy="6629400"/>
            <a:chOff x="-4680" y="0"/>
            <a:chExt cx="9159840" cy="6629400"/>
          </a:xfrm>
        </p:grpSpPr>
        <p:grpSp>
          <p:nvGrpSpPr>
            <p:cNvPr id="307" name=""/>
            <p:cNvGrpSpPr/>
            <p:nvPr/>
          </p:nvGrpSpPr>
          <p:grpSpPr>
            <a:xfrm>
              <a:off x="316080" y="1523880"/>
              <a:ext cx="8534160" cy="5105520"/>
              <a:chOff x="316080" y="1523880"/>
              <a:chExt cx="8534160" cy="5105520"/>
            </a:xfrm>
          </p:grpSpPr>
          <p:sp>
            <p:nvSpPr>
              <p:cNvPr id="308" name=""/>
              <p:cNvSpPr/>
              <p:nvPr/>
            </p:nvSpPr>
            <p:spPr>
              <a:xfrm>
                <a:off x="31608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019880" y="1638360"/>
                <a:ext cx="6301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The Birth of Modern Astronomy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-4680" y="0"/>
              <a:ext cx="9159840" cy="1430280"/>
              <a:chOff x="-4680" y="0"/>
              <a:chExt cx="9159840" cy="1430280"/>
            </a:xfrm>
          </p:grpSpPr>
          <p:sp>
            <p:nvSpPr>
              <p:cNvPr id="311" name=""/>
              <p:cNvSpPr/>
              <p:nvPr/>
            </p:nvSpPr>
            <p:spPr>
              <a:xfrm>
                <a:off x="180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12" name=""/>
              <p:cNvGrpSpPr/>
              <p:nvPr/>
            </p:nvGrpSpPr>
            <p:grpSpPr>
              <a:xfrm>
                <a:off x="-4680" y="0"/>
                <a:ext cx="9159840" cy="136440"/>
                <a:chOff x="-4680" y="0"/>
                <a:chExt cx="9159840" cy="13644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-468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-468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3240" y="1219320"/>
                <a:ext cx="9144000" cy="210960"/>
                <a:chOff x="3240" y="1219320"/>
                <a:chExt cx="9144000" cy="21096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324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324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2.1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 Early Astronomy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260360" y="2163600"/>
            <a:ext cx="76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ir Isaac Newt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1736640" y="2646360"/>
            <a:ext cx="712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though others had theorized the existence of gravitational force, Newton was the first to formulate and test the law of universal gravit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"/>
          <p:cNvSpPr/>
          <p:nvPr/>
        </p:nvSpPr>
        <p:spPr>
          <a:xfrm>
            <a:off x="1260360" y="4183200"/>
            <a:ext cx="76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Universal Gravi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"/>
          <p:cNvSpPr/>
          <p:nvPr/>
        </p:nvSpPr>
        <p:spPr>
          <a:xfrm>
            <a:off x="1736640" y="4665600"/>
            <a:ext cx="71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ravitational force decreases with dista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"/>
          <p:cNvSpPr/>
          <p:nvPr/>
        </p:nvSpPr>
        <p:spPr>
          <a:xfrm>
            <a:off x="1736640" y="5084640"/>
            <a:ext cx="71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greater the mass of an object, the greater is its gravitational for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"/>
          <p:cNvGrpSpPr/>
          <p:nvPr/>
        </p:nvGrpSpPr>
        <p:grpSpPr>
          <a:xfrm>
            <a:off x="0" y="0"/>
            <a:ext cx="9159840" cy="1430280"/>
            <a:chOff x="0" y="0"/>
            <a:chExt cx="9159840" cy="1430280"/>
          </a:xfrm>
        </p:grpSpPr>
        <p:sp>
          <p:nvSpPr>
            <p:cNvPr id="325" name=""/>
            <p:cNvSpPr/>
            <p:nvPr/>
          </p:nvSpPr>
          <p:spPr>
            <a:xfrm>
              <a:off x="648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26" name=""/>
            <p:cNvGrpSpPr/>
            <p:nvPr/>
          </p:nvGrpSpPr>
          <p:grpSpPr>
            <a:xfrm>
              <a:off x="0" y="0"/>
              <a:ext cx="9159840" cy="136440"/>
              <a:chOff x="0" y="0"/>
              <a:chExt cx="9159840" cy="136440"/>
            </a:xfrm>
          </p:grpSpPr>
          <p:sp>
            <p:nvSpPr>
              <p:cNvPr id="327" name=""/>
              <p:cNvSpPr/>
              <p:nvPr/>
            </p:nvSpPr>
            <p:spPr>
              <a:xfrm>
                <a:off x="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7920" y="1219320"/>
              <a:ext cx="9144000" cy="210960"/>
              <a:chOff x="7920" y="1219320"/>
              <a:chExt cx="9144000" cy="210960"/>
            </a:xfrm>
          </p:grpSpPr>
          <p:sp>
            <p:nvSpPr>
              <p:cNvPr id="330" name=""/>
              <p:cNvSpPr/>
              <p:nvPr/>
            </p:nvSpPr>
            <p:spPr>
              <a:xfrm>
                <a:off x="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23184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2979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ravity’s Influence on Orbi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343080" y="1592280"/>
            <a:ext cx="8458200" cy="5092560"/>
            <a:chOff x="343080" y="1592280"/>
            <a:chExt cx="8458200" cy="5092560"/>
          </a:xfrm>
        </p:grpSpPr>
        <p:sp>
          <p:nvSpPr>
            <p:cNvPr id="334" name=""/>
            <p:cNvSpPr/>
            <p:nvPr/>
          </p:nvSpPr>
          <p:spPr>
            <a:xfrm>
              <a:off x="343080" y="1592280"/>
              <a:ext cx="8458200" cy="5092560"/>
            </a:xfrm>
            <a:prstGeom prst="roundRect">
              <a:avLst>
                <a:gd name="adj" fmla="val 2213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335" name="" descr=""/>
            <p:cNvPicPr/>
            <p:nvPr/>
          </p:nvPicPr>
          <p:blipFill>
            <a:blip r:embed="rId1"/>
            <a:stretch/>
          </p:blipFill>
          <p:spPr>
            <a:xfrm>
              <a:off x="636480" y="2030400"/>
              <a:ext cx="7871040" cy="4216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"/>
          <p:cNvGrpSpPr/>
          <p:nvPr/>
        </p:nvGrpSpPr>
        <p:grpSpPr>
          <a:xfrm>
            <a:off x="-4680" y="0"/>
            <a:ext cx="9159840" cy="6629400"/>
            <a:chOff x="-4680" y="0"/>
            <a:chExt cx="9159840" cy="6629400"/>
          </a:xfrm>
        </p:grpSpPr>
        <p:grpSp>
          <p:nvGrpSpPr>
            <p:cNvPr id="337" name=""/>
            <p:cNvGrpSpPr/>
            <p:nvPr/>
          </p:nvGrpSpPr>
          <p:grpSpPr>
            <a:xfrm>
              <a:off x="316080" y="1523880"/>
              <a:ext cx="8534160" cy="5105520"/>
              <a:chOff x="316080" y="1523880"/>
              <a:chExt cx="8534160" cy="5105520"/>
            </a:xfrm>
          </p:grpSpPr>
          <p:sp>
            <p:nvSpPr>
              <p:cNvPr id="338" name=""/>
              <p:cNvSpPr/>
              <p:nvPr/>
            </p:nvSpPr>
            <p:spPr>
              <a:xfrm>
                <a:off x="31608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020240" y="1638360"/>
                <a:ext cx="3387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Motions of Earth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-4680" y="0"/>
              <a:ext cx="9159840" cy="1430280"/>
              <a:chOff x="-4680" y="0"/>
              <a:chExt cx="9159840" cy="1430280"/>
            </a:xfrm>
          </p:grpSpPr>
          <p:sp>
            <p:nvSpPr>
              <p:cNvPr id="341" name=""/>
              <p:cNvSpPr/>
              <p:nvPr/>
            </p:nvSpPr>
            <p:spPr>
              <a:xfrm>
                <a:off x="180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42" name=""/>
              <p:cNvGrpSpPr/>
              <p:nvPr/>
            </p:nvGrpSpPr>
            <p:grpSpPr>
              <a:xfrm>
                <a:off x="-4680" y="0"/>
                <a:ext cx="9159840" cy="136440"/>
                <a:chOff x="-4680" y="0"/>
                <a:chExt cx="9159840" cy="13644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-468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-468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3240" y="1219320"/>
                <a:ext cx="9144000" cy="210960"/>
                <a:chOff x="3240" y="1219320"/>
                <a:chExt cx="9144000" cy="21096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324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324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d600"/>
                </a:solidFill>
                <a:latin typeface="Arial"/>
                <a:ea typeface="Times New Roman"/>
              </a:rPr>
              <a:t>22.2</a:t>
            </a:r>
            <a:r>
              <a:rPr b="1" lang="en-US" sz="4100" spc="-1" strike="noStrike">
                <a:solidFill>
                  <a:srgbClr val="ffffff"/>
                </a:solidFill>
                <a:latin typeface="Arial"/>
                <a:ea typeface="Times New Roman"/>
              </a:rPr>
              <a:t>  The Earth–Moon–Sun System   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260360" y="2163600"/>
            <a:ext cx="7572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two main motions of Earth are rotation and revolution. Precession is a third and very slow motion of Earth’s axi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7920"/>
            <a:ext cx="9144000" cy="2209680"/>
          </a:xfrm>
          <a:prstGeom prst="rect">
            <a:avLst/>
          </a:prstGeom>
          <a:solidFill>
            <a:srgbClr val="d00c0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16002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5400"/>
            </a:br>
            <a:r>
              <a:rPr b="1" lang="en-US" sz="9600" spc="-1" strike="noStrike">
                <a:solidFill>
                  <a:srgbClr val="ffcc00"/>
                </a:solidFill>
                <a:latin typeface="Arial"/>
              </a:rPr>
              <a:t>22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05120" y="284040"/>
            <a:ext cx="7238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Origin of Modern Astronomy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"/>
          <p:cNvGrpSpPr/>
          <p:nvPr/>
        </p:nvGrpSpPr>
        <p:grpSpPr>
          <a:xfrm>
            <a:off x="0" y="0"/>
            <a:ext cx="9159840" cy="1430280"/>
            <a:chOff x="0" y="0"/>
            <a:chExt cx="9159840" cy="1430280"/>
          </a:xfrm>
        </p:grpSpPr>
        <p:sp>
          <p:nvSpPr>
            <p:cNvPr id="351" name=""/>
            <p:cNvSpPr/>
            <p:nvPr/>
          </p:nvSpPr>
          <p:spPr>
            <a:xfrm>
              <a:off x="648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0" y="0"/>
              <a:ext cx="9159840" cy="136440"/>
              <a:chOff x="0" y="0"/>
              <a:chExt cx="9159840" cy="136440"/>
            </a:xfrm>
          </p:grpSpPr>
          <p:sp>
            <p:nvSpPr>
              <p:cNvPr id="353" name=""/>
              <p:cNvSpPr/>
              <p:nvPr/>
            </p:nvSpPr>
            <p:spPr>
              <a:xfrm>
                <a:off x="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7920" y="1219320"/>
              <a:ext cx="9144000" cy="210960"/>
              <a:chOff x="7920" y="1219320"/>
              <a:chExt cx="9144000" cy="210960"/>
            </a:xfrm>
          </p:grpSpPr>
          <p:sp>
            <p:nvSpPr>
              <p:cNvPr id="356" name=""/>
              <p:cNvSpPr/>
              <p:nvPr/>
            </p:nvSpPr>
            <p:spPr>
              <a:xfrm>
                <a:off x="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2700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2979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Stonehenge, an Ancient Observatory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460520" y="2400480"/>
            <a:ext cx="6222960" cy="3509640"/>
            <a:chOff x="1460520" y="2400480"/>
            <a:chExt cx="6222960" cy="3509640"/>
          </a:xfrm>
        </p:grpSpPr>
        <p:sp>
          <p:nvSpPr>
            <p:cNvPr id="360" name=""/>
            <p:cNvSpPr/>
            <p:nvPr/>
          </p:nvSpPr>
          <p:spPr>
            <a:xfrm>
              <a:off x="1460520" y="2400480"/>
              <a:ext cx="6222960" cy="3509640"/>
            </a:xfrm>
            <a:prstGeom prst="roundRect">
              <a:avLst>
                <a:gd name="adj" fmla="val 2213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"/>
            <a:stretch/>
          </p:blipFill>
          <p:spPr>
            <a:xfrm>
              <a:off x="1886040" y="2946960"/>
              <a:ext cx="5370120" cy="2416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"/>
          <p:cNvGrpSpPr/>
          <p:nvPr/>
        </p:nvGrpSpPr>
        <p:grpSpPr>
          <a:xfrm>
            <a:off x="-4680" y="0"/>
            <a:ext cx="9159840" cy="6629400"/>
            <a:chOff x="-4680" y="0"/>
            <a:chExt cx="9159840" cy="6629400"/>
          </a:xfrm>
        </p:grpSpPr>
        <p:grpSp>
          <p:nvGrpSpPr>
            <p:cNvPr id="363" name=""/>
            <p:cNvGrpSpPr/>
            <p:nvPr/>
          </p:nvGrpSpPr>
          <p:grpSpPr>
            <a:xfrm>
              <a:off x="316080" y="1523880"/>
              <a:ext cx="8534160" cy="5105520"/>
              <a:chOff x="316080" y="1523880"/>
              <a:chExt cx="8534160" cy="5105520"/>
            </a:xfrm>
          </p:grpSpPr>
          <p:sp>
            <p:nvSpPr>
              <p:cNvPr id="364" name=""/>
              <p:cNvSpPr/>
              <p:nvPr/>
            </p:nvSpPr>
            <p:spPr>
              <a:xfrm>
                <a:off x="31608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020240" y="1638360"/>
                <a:ext cx="3387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Motions of Earth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-4680" y="0"/>
              <a:ext cx="9159840" cy="1430280"/>
              <a:chOff x="-4680" y="0"/>
              <a:chExt cx="9159840" cy="1430280"/>
            </a:xfrm>
          </p:grpSpPr>
          <p:sp>
            <p:nvSpPr>
              <p:cNvPr id="367" name=""/>
              <p:cNvSpPr/>
              <p:nvPr/>
            </p:nvSpPr>
            <p:spPr>
              <a:xfrm>
                <a:off x="180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68" name=""/>
              <p:cNvGrpSpPr/>
              <p:nvPr/>
            </p:nvGrpSpPr>
            <p:grpSpPr>
              <a:xfrm>
                <a:off x="-4680" y="0"/>
                <a:ext cx="9159840" cy="136440"/>
                <a:chOff x="-4680" y="0"/>
                <a:chExt cx="9159840" cy="13644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-468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-468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71" name=""/>
              <p:cNvGrpSpPr/>
              <p:nvPr/>
            </p:nvGrpSpPr>
            <p:grpSpPr>
              <a:xfrm>
                <a:off x="3240" y="1219320"/>
                <a:ext cx="9144000" cy="210960"/>
                <a:chOff x="3240" y="1219320"/>
                <a:chExt cx="9144000" cy="21096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324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324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d600"/>
                </a:solidFill>
                <a:latin typeface="Arial"/>
                <a:ea typeface="Times New Roman"/>
              </a:rPr>
              <a:t>22.2</a:t>
            </a:r>
            <a:r>
              <a:rPr b="1" lang="en-US" sz="4100" spc="-1" strike="noStrike">
                <a:solidFill>
                  <a:srgbClr val="ffffff"/>
                </a:solidFill>
                <a:latin typeface="Arial"/>
                <a:ea typeface="Times New Roman"/>
              </a:rPr>
              <a:t>  The Earth–Moon–Sun System   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260360" y="2163600"/>
            <a:ext cx="76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o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"/>
          <p:cNvSpPr/>
          <p:nvPr/>
        </p:nvSpPr>
        <p:spPr>
          <a:xfrm>
            <a:off x="1736640" y="2635200"/>
            <a:ext cx="71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o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s the turning, or spinning, of a body on its axi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"/>
          <p:cNvSpPr/>
          <p:nvPr/>
        </p:nvSpPr>
        <p:spPr>
          <a:xfrm>
            <a:off x="1736280" y="3433680"/>
            <a:ext cx="476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wo measurements for ro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"/>
          <p:cNvSpPr/>
          <p:nvPr/>
        </p:nvSpPr>
        <p:spPr>
          <a:xfrm>
            <a:off x="1992240" y="3841920"/>
            <a:ext cx="685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 Mean solar d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s the time interval from one noon to the next, about 24 hou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"/>
          <p:cNvSpPr/>
          <p:nvPr/>
        </p:nvSpPr>
        <p:spPr>
          <a:xfrm>
            <a:off x="1992240" y="4640400"/>
            <a:ext cx="684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Sidereal d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s the time it takes for Earth to make one complete rotation (360º) with respect to a star other than the sun—23 hours, 56 minutes, 4 secon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"/>
          <p:cNvGrpSpPr/>
          <p:nvPr/>
        </p:nvGrpSpPr>
        <p:grpSpPr>
          <a:xfrm>
            <a:off x="0" y="0"/>
            <a:ext cx="9159840" cy="1430280"/>
            <a:chOff x="0" y="0"/>
            <a:chExt cx="9159840" cy="1430280"/>
          </a:xfrm>
        </p:grpSpPr>
        <p:sp>
          <p:nvSpPr>
            <p:cNvPr id="381" name=""/>
            <p:cNvSpPr/>
            <p:nvPr/>
          </p:nvSpPr>
          <p:spPr>
            <a:xfrm>
              <a:off x="648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0" y="0"/>
              <a:ext cx="9159840" cy="136440"/>
              <a:chOff x="0" y="0"/>
              <a:chExt cx="9159840" cy="136440"/>
            </a:xfrm>
          </p:grpSpPr>
          <p:sp>
            <p:nvSpPr>
              <p:cNvPr id="383" name=""/>
              <p:cNvSpPr/>
              <p:nvPr/>
            </p:nvSpPr>
            <p:spPr>
              <a:xfrm>
                <a:off x="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7920" y="1219320"/>
              <a:ext cx="9144000" cy="210960"/>
              <a:chOff x="7920" y="1219320"/>
              <a:chExt cx="9144000" cy="210960"/>
            </a:xfrm>
          </p:grpSpPr>
          <p:sp>
            <p:nvSpPr>
              <p:cNvPr id="386" name=""/>
              <p:cNvSpPr/>
              <p:nvPr/>
            </p:nvSpPr>
            <p:spPr>
              <a:xfrm>
                <a:off x="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21924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2979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idereal Da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222120" y="2006640"/>
            <a:ext cx="8699760" cy="4165560"/>
            <a:chOff x="222120" y="2006640"/>
            <a:chExt cx="8699760" cy="4165560"/>
          </a:xfrm>
        </p:grpSpPr>
        <p:sp>
          <p:nvSpPr>
            <p:cNvPr id="390" name=""/>
            <p:cNvSpPr/>
            <p:nvPr/>
          </p:nvSpPr>
          <p:spPr>
            <a:xfrm>
              <a:off x="222120" y="2006640"/>
              <a:ext cx="8699760" cy="4165560"/>
            </a:xfrm>
            <a:prstGeom prst="roundRect">
              <a:avLst>
                <a:gd name="adj" fmla="val 2213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391" name="" descr=""/>
            <p:cNvPicPr/>
            <p:nvPr/>
          </p:nvPicPr>
          <p:blipFill>
            <a:blip r:embed="rId1"/>
            <a:stretch/>
          </p:blipFill>
          <p:spPr>
            <a:xfrm>
              <a:off x="430200" y="2600280"/>
              <a:ext cx="8285040" cy="2978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"/>
          <p:cNvGrpSpPr/>
          <p:nvPr/>
        </p:nvGrpSpPr>
        <p:grpSpPr>
          <a:xfrm>
            <a:off x="0" y="0"/>
            <a:ext cx="9159840" cy="6629400"/>
            <a:chOff x="0" y="0"/>
            <a:chExt cx="9159840" cy="6629400"/>
          </a:xfrm>
        </p:grpSpPr>
        <p:grpSp>
          <p:nvGrpSpPr>
            <p:cNvPr id="393" name=""/>
            <p:cNvGrpSpPr/>
            <p:nvPr/>
          </p:nvGrpSpPr>
          <p:grpSpPr>
            <a:xfrm>
              <a:off x="320760" y="1523880"/>
              <a:ext cx="8534160" cy="5105520"/>
              <a:chOff x="320760" y="1523880"/>
              <a:chExt cx="8534160" cy="5105520"/>
            </a:xfrm>
          </p:grpSpPr>
          <p:sp>
            <p:nvSpPr>
              <p:cNvPr id="394" name=""/>
              <p:cNvSpPr/>
              <p:nvPr/>
            </p:nvSpPr>
            <p:spPr>
              <a:xfrm>
                <a:off x="32076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024920" y="1638360"/>
                <a:ext cx="3387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Motions of Earth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0" y="0"/>
              <a:ext cx="9159840" cy="1430280"/>
              <a:chOff x="0" y="0"/>
              <a:chExt cx="9159840" cy="1430280"/>
            </a:xfrm>
          </p:grpSpPr>
          <p:sp>
            <p:nvSpPr>
              <p:cNvPr id="397" name=""/>
              <p:cNvSpPr/>
              <p:nvPr/>
            </p:nvSpPr>
            <p:spPr>
              <a:xfrm>
                <a:off x="648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98" name=""/>
              <p:cNvGrpSpPr/>
              <p:nvPr/>
            </p:nvGrpSpPr>
            <p:grpSpPr>
              <a:xfrm>
                <a:off x="0" y="0"/>
                <a:ext cx="9159840" cy="136440"/>
                <a:chOff x="0" y="0"/>
                <a:chExt cx="9159840" cy="13644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01" name=""/>
              <p:cNvGrpSpPr/>
              <p:nvPr/>
            </p:nvGrpSpPr>
            <p:grpSpPr>
              <a:xfrm>
                <a:off x="7920" y="1219320"/>
                <a:ext cx="9144000" cy="210960"/>
                <a:chOff x="7920" y="1219320"/>
                <a:chExt cx="9144000" cy="21096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792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792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d600"/>
                </a:solidFill>
                <a:latin typeface="Arial"/>
                <a:ea typeface="Times New Roman"/>
              </a:rPr>
              <a:t>22.2</a:t>
            </a:r>
            <a:r>
              <a:rPr b="1" lang="en-US" sz="4100" spc="-1" strike="noStrike">
                <a:solidFill>
                  <a:srgbClr val="ffffff"/>
                </a:solidFill>
                <a:latin typeface="Arial"/>
                <a:ea typeface="Times New Roman"/>
              </a:rPr>
              <a:t>  The Earth–Moon–Sun System   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260360" y="2176560"/>
            <a:ext cx="76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ev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"/>
          <p:cNvSpPr/>
          <p:nvPr/>
        </p:nvSpPr>
        <p:spPr>
          <a:xfrm>
            <a:off x="1736640" y="2658960"/>
            <a:ext cx="710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volu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s the motion of a body, such as a planet or moon, along a path around some point in sp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"/>
          <p:cNvSpPr/>
          <p:nvPr/>
        </p:nvSpPr>
        <p:spPr>
          <a:xfrm>
            <a:off x="1736640" y="3808440"/>
            <a:ext cx="710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erihel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the time in January when Earth is closest to the su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"/>
          <p:cNvSpPr/>
          <p:nvPr/>
        </p:nvSpPr>
        <p:spPr>
          <a:xfrm>
            <a:off x="1736640" y="4605480"/>
            <a:ext cx="710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hel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the time in July when Earth is farthest from the su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"/>
          <p:cNvGrpSpPr/>
          <p:nvPr/>
        </p:nvGrpSpPr>
        <p:grpSpPr>
          <a:xfrm>
            <a:off x="0" y="0"/>
            <a:ext cx="9159840" cy="6629400"/>
            <a:chOff x="0" y="0"/>
            <a:chExt cx="9159840" cy="6629400"/>
          </a:xfrm>
        </p:grpSpPr>
        <p:grpSp>
          <p:nvGrpSpPr>
            <p:cNvPr id="410" name=""/>
            <p:cNvGrpSpPr/>
            <p:nvPr/>
          </p:nvGrpSpPr>
          <p:grpSpPr>
            <a:xfrm>
              <a:off x="320760" y="1523880"/>
              <a:ext cx="8534160" cy="5105520"/>
              <a:chOff x="320760" y="1523880"/>
              <a:chExt cx="8534160" cy="5105520"/>
            </a:xfrm>
          </p:grpSpPr>
          <p:sp>
            <p:nvSpPr>
              <p:cNvPr id="411" name=""/>
              <p:cNvSpPr/>
              <p:nvPr/>
            </p:nvSpPr>
            <p:spPr>
              <a:xfrm>
                <a:off x="32076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024920" y="1638360"/>
                <a:ext cx="3387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Motions of Earth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0" y="0"/>
              <a:ext cx="9159840" cy="1430280"/>
              <a:chOff x="0" y="0"/>
              <a:chExt cx="9159840" cy="1430280"/>
            </a:xfrm>
          </p:grpSpPr>
          <p:sp>
            <p:nvSpPr>
              <p:cNvPr id="414" name=""/>
              <p:cNvSpPr/>
              <p:nvPr/>
            </p:nvSpPr>
            <p:spPr>
              <a:xfrm>
                <a:off x="648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15" name=""/>
              <p:cNvGrpSpPr/>
              <p:nvPr/>
            </p:nvGrpSpPr>
            <p:grpSpPr>
              <a:xfrm>
                <a:off x="0" y="0"/>
                <a:ext cx="9159840" cy="136440"/>
                <a:chOff x="0" y="0"/>
                <a:chExt cx="9159840" cy="13644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7920" y="1219320"/>
                <a:ext cx="9144000" cy="210960"/>
                <a:chOff x="7920" y="1219320"/>
                <a:chExt cx="9144000" cy="21096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792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792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d600"/>
                </a:solidFill>
                <a:latin typeface="Arial"/>
                <a:ea typeface="Times New Roman"/>
              </a:rPr>
              <a:t>22.2</a:t>
            </a:r>
            <a:r>
              <a:rPr b="1" lang="en-US" sz="4100" spc="-1" strike="noStrike">
                <a:solidFill>
                  <a:srgbClr val="ffffff"/>
                </a:solidFill>
                <a:latin typeface="Arial"/>
                <a:ea typeface="Times New Roman"/>
              </a:rPr>
              <a:t>  The Earth–Moon–Sun System   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260360" y="2176560"/>
            <a:ext cx="76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arth’s Axis and Seas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"/>
          <p:cNvSpPr/>
          <p:nvPr/>
        </p:nvSpPr>
        <p:spPr>
          <a:xfrm>
            <a:off x="1736640" y="3795840"/>
            <a:ext cx="706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cause of the inclination of Earth’s axis to the plane of the ecliptic, Earth has its yearly cycle of seas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"/>
          <p:cNvSpPr/>
          <p:nvPr/>
        </p:nvSpPr>
        <p:spPr>
          <a:xfrm>
            <a:off x="1736640" y="2649600"/>
            <a:ext cx="702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plane of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clip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s an imaginary plane that connects Earth’s orbit with the celestial sphe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"/>
          <p:cNvGrpSpPr/>
          <p:nvPr/>
        </p:nvGrpSpPr>
        <p:grpSpPr>
          <a:xfrm>
            <a:off x="0" y="0"/>
            <a:ext cx="9159840" cy="1430280"/>
            <a:chOff x="0" y="0"/>
            <a:chExt cx="9159840" cy="1430280"/>
          </a:xfrm>
        </p:grpSpPr>
        <p:sp>
          <p:nvSpPr>
            <p:cNvPr id="426" name=""/>
            <p:cNvSpPr/>
            <p:nvPr/>
          </p:nvSpPr>
          <p:spPr>
            <a:xfrm>
              <a:off x="648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27" name=""/>
            <p:cNvGrpSpPr/>
            <p:nvPr/>
          </p:nvGrpSpPr>
          <p:grpSpPr>
            <a:xfrm>
              <a:off x="0" y="0"/>
              <a:ext cx="9159840" cy="136440"/>
              <a:chOff x="0" y="0"/>
              <a:chExt cx="9159840" cy="136440"/>
            </a:xfrm>
          </p:grpSpPr>
          <p:sp>
            <p:nvSpPr>
              <p:cNvPr id="428" name=""/>
              <p:cNvSpPr/>
              <p:nvPr/>
            </p:nvSpPr>
            <p:spPr>
              <a:xfrm>
                <a:off x="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30" name=""/>
            <p:cNvGrpSpPr/>
            <p:nvPr/>
          </p:nvGrpSpPr>
          <p:grpSpPr>
            <a:xfrm>
              <a:off x="7920" y="1219320"/>
              <a:ext cx="9144000" cy="210960"/>
              <a:chOff x="7920" y="1219320"/>
              <a:chExt cx="9144000" cy="210960"/>
            </a:xfrm>
          </p:grpSpPr>
          <p:sp>
            <p:nvSpPr>
              <p:cNvPr id="431" name=""/>
              <p:cNvSpPr/>
              <p:nvPr/>
            </p:nvSpPr>
            <p:spPr>
              <a:xfrm>
                <a:off x="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0" y="23184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2979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Eclipt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1962000" y="1592280"/>
            <a:ext cx="5220000" cy="5092560"/>
            <a:chOff x="1962000" y="1592280"/>
            <a:chExt cx="5220000" cy="5092560"/>
          </a:xfrm>
        </p:grpSpPr>
        <p:sp>
          <p:nvSpPr>
            <p:cNvPr id="435" name=""/>
            <p:cNvSpPr/>
            <p:nvPr/>
          </p:nvSpPr>
          <p:spPr>
            <a:xfrm>
              <a:off x="1962000" y="1592280"/>
              <a:ext cx="5220000" cy="5092560"/>
            </a:xfrm>
            <a:prstGeom prst="roundRect">
              <a:avLst>
                <a:gd name="adj" fmla="val 2213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436" name="" descr=""/>
            <p:cNvPicPr/>
            <p:nvPr/>
          </p:nvPicPr>
          <p:blipFill>
            <a:blip r:embed="rId1"/>
            <a:stretch/>
          </p:blipFill>
          <p:spPr>
            <a:xfrm>
              <a:off x="2427120" y="1994040"/>
              <a:ext cx="4289760" cy="4289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" name=""/>
          <p:cNvGrpSpPr/>
          <p:nvPr/>
        </p:nvGrpSpPr>
        <p:grpSpPr>
          <a:xfrm>
            <a:off x="0" y="0"/>
            <a:ext cx="9159840" cy="6629400"/>
            <a:chOff x="0" y="0"/>
            <a:chExt cx="9159840" cy="6629400"/>
          </a:xfrm>
        </p:grpSpPr>
        <p:grpSp>
          <p:nvGrpSpPr>
            <p:cNvPr id="438" name=""/>
            <p:cNvGrpSpPr/>
            <p:nvPr/>
          </p:nvGrpSpPr>
          <p:grpSpPr>
            <a:xfrm>
              <a:off x="320760" y="1523880"/>
              <a:ext cx="8534160" cy="5105520"/>
              <a:chOff x="320760" y="1523880"/>
              <a:chExt cx="8534160" cy="5105520"/>
            </a:xfrm>
          </p:grpSpPr>
          <p:sp>
            <p:nvSpPr>
              <p:cNvPr id="439" name=""/>
              <p:cNvSpPr/>
              <p:nvPr/>
            </p:nvSpPr>
            <p:spPr>
              <a:xfrm>
                <a:off x="32076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024920" y="1638360"/>
                <a:ext cx="3387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Motions of Earth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0" y="0"/>
              <a:ext cx="9159840" cy="1430280"/>
              <a:chOff x="0" y="0"/>
              <a:chExt cx="9159840" cy="1430280"/>
            </a:xfrm>
          </p:grpSpPr>
          <p:sp>
            <p:nvSpPr>
              <p:cNvPr id="442" name=""/>
              <p:cNvSpPr/>
              <p:nvPr/>
            </p:nvSpPr>
            <p:spPr>
              <a:xfrm>
                <a:off x="648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43" name=""/>
              <p:cNvGrpSpPr/>
              <p:nvPr/>
            </p:nvGrpSpPr>
            <p:grpSpPr>
              <a:xfrm>
                <a:off x="0" y="0"/>
                <a:ext cx="9159840" cy="136440"/>
                <a:chOff x="0" y="0"/>
                <a:chExt cx="9159840" cy="13644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46" name=""/>
              <p:cNvGrpSpPr/>
              <p:nvPr/>
            </p:nvGrpSpPr>
            <p:grpSpPr>
              <a:xfrm>
                <a:off x="7920" y="1219320"/>
                <a:ext cx="9144000" cy="210960"/>
                <a:chOff x="7920" y="1219320"/>
                <a:chExt cx="9144000" cy="21096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792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792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d600"/>
                </a:solidFill>
                <a:latin typeface="Arial"/>
                <a:ea typeface="Times New Roman"/>
              </a:rPr>
              <a:t>22.2 </a:t>
            </a:r>
            <a:r>
              <a:rPr b="1" lang="en-US" sz="4100" spc="-1" strike="noStrike">
                <a:solidFill>
                  <a:srgbClr val="ffffff"/>
                </a:solidFill>
                <a:latin typeface="Arial"/>
                <a:ea typeface="Times New Roman"/>
              </a:rPr>
              <a:t> The Earth–Moon–Sun System   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260360" y="2176560"/>
            <a:ext cx="76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ec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"/>
          <p:cNvSpPr/>
          <p:nvPr/>
        </p:nvSpPr>
        <p:spPr>
          <a:xfrm>
            <a:off x="1736640" y="2637000"/>
            <a:ext cx="698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eces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races out a cone over a period of 26,000 yea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"/>
          <p:cNvSpPr/>
          <p:nvPr/>
        </p:nvSpPr>
        <p:spPr>
          <a:xfrm>
            <a:off x="1260360" y="3433680"/>
            <a:ext cx="76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arth–Sun Mo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"/>
          <p:cNvSpPr/>
          <p:nvPr/>
        </p:nvSpPr>
        <p:spPr>
          <a:xfrm>
            <a:off x="1736640" y="3900600"/>
            <a:ext cx="70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solar system speeds in the direction of the star Veg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"/>
          <p:cNvSpPr/>
          <p:nvPr/>
        </p:nvSpPr>
        <p:spPr>
          <a:xfrm>
            <a:off x="1738440" y="4694400"/>
            <a:ext cx="536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sun revolves around the galax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"/>
          <p:cNvSpPr/>
          <p:nvPr/>
        </p:nvSpPr>
        <p:spPr>
          <a:xfrm>
            <a:off x="1736640" y="5135400"/>
            <a:ext cx="697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arth is presently approaching one of its nearest galactic neighbors, the Great Galaxy in Androme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"/>
          <p:cNvGrpSpPr/>
          <p:nvPr/>
        </p:nvGrpSpPr>
        <p:grpSpPr>
          <a:xfrm>
            <a:off x="0" y="0"/>
            <a:ext cx="9159840" cy="1430280"/>
            <a:chOff x="0" y="0"/>
            <a:chExt cx="9159840" cy="1430280"/>
          </a:xfrm>
        </p:grpSpPr>
        <p:sp>
          <p:nvSpPr>
            <p:cNvPr id="457" name=""/>
            <p:cNvSpPr/>
            <p:nvPr/>
          </p:nvSpPr>
          <p:spPr>
            <a:xfrm>
              <a:off x="648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58" name=""/>
            <p:cNvGrpSpPr/>
            <p:nvPr/>
          </p:nvGrpSpPr>
          <p:grpSpPr>
            <a:xfrm>
              <a:off x="0" y="0"/>
              <a:ext cx="9159840" cy="136440"/>
              <a:chOff x="0" y="0"/>
              <a:chExt cx="9159840" cy="136440"/>
            </a:xfrm>
          </p:grpSpPr>
          <p:sp>
            <p:nvSpPr>
              <p:cNvPr id="459" name=""/>
              <p:cNvSpPr/>
              <p:nvPr/>
            </p:nvSpPr>
            <p:spPr>
              <a:xfrm>
                <a:off x="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7920" y="1219320"/>
              <a:ext cx="9144000" cy="210960"/>
              <a:chOff x="7920" y="1219320"/>
              <a:chExt cx="9144000" cy="210960"/>
            </a:xfrm>
          </p:grpSpPr>
          <p:sp>
            <p:nvSpPr>
              <p:cNvPr id="462" name=""/>
              <p:cNvSpPr/>
              <p:nvPr/>
            </p:nvSpPr>
            <p:spPr>
              <a:xfrm>
                <a:off x="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0" y="21924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2979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rece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254160" y="1592280"/>
            <a:ext cx="8635680" cy="5092560"/>
            <a:chOff x="254160" y="1592280"/>
            <a:chExt cx="8635680" cy="5092560"/>
          </a:xfrm>
        </p:grpSpPr>
        <p:sp>
          <p:nvSpPr>
            <p:cNvPr id="466" name=""/>
            <p:cNvSpPr/>
            <p:nvPr/>
          </p:nvSpPr>
          <p:spPr>
            <a:xfrm>
              <a:off x="254160" y="1592280"/>
              <a:ext cx="8635680" cy="5092560"/>
            </a:xfrm>
            <a:prstGeom prst="roundRect">
              <a:avLst>
                <a:gd name="adj" fmla="val 2213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467" name="" descr=""/>
            <p:cNvPicPr/>
            <p:nvPr/>
          </p:nvPicPr>
          <p:blipFill>
            <a:blip r:embed="rId1"/>
            <a:stretch/>
          </p:blipFill>
          <p:spPr>
            <a:xfrm>
              <a:off x="839880" y="1870200"/>
              <a:ext cx="7466040" cy="4537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"/>
          <p:cNvGrpSpPr/>
          <p:nvPr/>
        </p:nvGrpSpPr>
        <p:grpSpPr>
          <a:xfrm>
            <a:off x="0" y="0"/>
            <a:ext cx="9159840" cy="6629400"/>
            <a:chOff x="0" y="0"/>
            <a:chExt cx="9159840" cy="6629400"/>
          </a:xfrm>
        </p:grpSpPr>
        <p:grpSp>
          <p:nvGrpSpPr>
            <p:cNvPr id="469" name=""/>
            <p:cNvGrpSpPr/>
            <p:nvPr/>
          </p:nvGrpSpPr>
          <p:grpSpPr>
            <a:xfrm>
              <a:off x="320760" y="1523880"/>
              <a:ext cx="8534160" cy="5105520"/>
              <a:chOff x="320760" y="1523880"/>
              <a:chExt cx="8534160" cy="5105520"/>
            </a:xfrm>
          </p:grpSpPr>
          <p:sp>
            <p:nvSpPr>
              <p:cNvPr id="470" name=""/>
              <p:cNvSpPr/>
              <p:nvPr/>
            </p:nvSpPr>
            <p:spPr>
              <a:xfrm>
                <a:off x="32076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026000" y="1638360"/>
                <a:ext cx="6976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Motions of the Earth–Moon System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0" y="0"/>
              <a:ext cx="9159840" cy="1430280"/>
              <a:chOff x="0" y="0"/>
              <a:chExt cx="9159840" cy="1430280"/>
            </a:xfrm>
          </p:grpSpPr>
          <p:sp>
            <p:nvSpPr>
              <p:cNvPr id="473" name=""/>
              <p:cNvSpPr/>
              <p:nvPr/>
            </p:nvSpPr>
            <p:spPr>
              <a:xfrm>
                <a:off x="648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74" name=""/>
              <p:cNvGrpSpPr/>
              <p:nvPr/>
            </p:nvGrpSpPr>
            <p:grpSpPr>
              <a:xfrm>
                <a:off x="0" y="0"/>
                <a:ext cx="9159840" cy="136440"/>
                <a:chOff x="0" y="0"/>
                <a:chExt cx="9159840" cy="13644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77" name=""/>
              <p:cNvGrpSpPr/>
              <p:nvPr/>
            </p:nvGrpSpPr>
            <p:grpSpPr>
              <a:xfrm>
                <a:off x="7920" y="1219320"/>
                <a:ext cx="9144000" cy="210960"/>
                <a:chOff x="7920" y="1219320"/>
                <a:chExt cx="9144000" cy="210960"/>
              </a:xfrm>
            </p:grpSpPr>
            <p:sp>
              <p:nvSpPr>
                <p:cNvPr id="478" name=""/>
                <p:cNvSpPr/>
                <p:nvPr/>
              </p:nvSpPr>
              <p:spPr>
                <a:xfrm>
                  <a:off x="792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792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d600"/>
                </a:solidFill>
                <a:latin typeface="Arial"/>
                <a:ea typeface="Times New Roman"/>
              </a:rPr>
              <a:t>22.2 </a:t>
            </a:r>
            <a:r>
              <a:rPr b="1" lang="en-US" sz="4100" spc="-1" strike="noStrike">
                <a:solidFill>
                  <a:srgbClr val="ffffff"/>
                </a:solidFill>
                <a:latin typeface="Arial"/>
                <a:ea typeface="Times New Roman"/>
              </a:rPr>
              <a:t> The Earth–Moon–Sun System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260360" y="2163600"/>
            <a:ext cx="757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erige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is the point at which the moon is closest to Eart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"/>
          <p:cNvSpPr/>
          <p:nvPr/>
        </p:nvSpPr>
        <p:spPr>
          <a:xfrm>
            <a:off x="1260360" y="3078000"/>
            <a:ext cx="757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poge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is the point at which the moon is farthest from Eart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3" name=""/>
          <p:cNvGrpSpPr/>
          <p:nvPr/>
        </p:nvGrpSpPr>
        <p:grpSpPr>
          <a:xfrm>
            <a:off x="0" y="0"/>
            <a:ext cx="9159840" cy="6629400"/>
            <a:chOff x="0" y="0"/>
            <a:chExt cx="9159840" cy="6629400"/>
          </a:xfrm>
        </p:grpSpPr>
        <p:grpSp>
          <p:nvGrpSpPr>
            <p:cNvPr id="484" name=""/>
            <p:cNvGrpSpPr/>
            <p:nvPr/>
          </p:nvGrpSpPr>
          <p:grpSpPr>
            <a:xfrm>
              <a:off x="320760" y="1523880"/>
              <a:ext cx="8534160" cy="5105520"/>
              <a:chOff x="320760" y="1523880"/>
              <a:chExt cx="8534160" cy="5105520"/>
            </a:xfrm>
          </p:grpSpPr>
          <p:sp>
            <p:nvSpPr>
              <p:cNvPr id="485" name=""/>
              <p:cNvSpPr/>
              <p:nvPr/>
            </p:nvSpPr>
            <p:spPr>
              <a:xfrm>
                <a:off x="32076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026000" y="1638360"/>
                <a:ext cx="6976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Motions of the Earth–Moon System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87" name=""/>
            <p:cNvGrpSpPr/>
            <p:nvPr/>
          </p:nvGrpSpPr>
          <p:grpSpPr>
            <a:xfrm>
              <a:off x="0" y="0"/>
              <a:ext cx="9159840" cy="1430280"/>
              <a:chOff x="0" y="0"/>
              <a:chExt cx="9159840" cy="1430280"/>
            </a:xfrm>
          </p:grpSpPr>
          <p:sp>
            <p:nvSpPr>
              <p:cNvPr id="488" name=""/>
              <p:cNvSpPr/>
              <p:nvPr/>
            </p:nvSpPr>
            <p:spPr>
              <a:xfrm>
                <a:off x="648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89" name=""/>
              <p:cNvGrpSpPr/>
              <p:nvPr/>
            </p:nvGrpSpPr>
            <p:grpSpPr>
              <a:xfrm>
                <a:off x="0" y="0"/>
                <a:ext cx="9159840" cy="136440"/>
                <a:chOff x="0" y="0"/>
                <a:chExt cx="9159840" cy="13644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7920" y="1219320"/>
                <a:ext cx="9144000" cy="210960"/>
                <a:chOff x="7920" y="1219320"/>
                <a:chExt cx="9144000" cy="21096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792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792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d600"/>
                </a:solidFill>
                <a:latin typeface="Arial"/>
                <a:ea typeface="Times New Roman"/>
              </a:rPr>
              <a:t>22.2</a:t>
            </a:r>
            <a:r>
              <a:rPr b="1" lang="en-US" sz="4100" spc="-1" strike="noStrike">
                <a:solidFill>
                  <a:srgbClr val="ffffff"/>
                </a:solidFill>
                <a:latin typeface="Arial"/>
                <a:ea typeface="Times New Roman"/>
              </a:rPr>
              <a:t>  The Earth–Moon–Sun System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260360" y="2163600"/>
            <a:ext cx="76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hases of the Mo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"/>
          <p:cNvSpPr/>
          <p:nvPr/>
        </p:nvSpPr>
        <p:spPr>
          <a:xfrm>
            <a:off x="1736640" y="2644920"/>
            <a:ext cx="706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hases of the mo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re the progression of changes in the moon’s appearance during the mont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"/>
          <p:cNvSpPr/>
          <p:nvPr/>
        </p:nvSpPr>
        <p:spPr>
          <a:xfrm>
            <a:off x="1736640" y="3805200"/>
            <a:ext cx="714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unar phases are a result of the motion of the moon and the sunlight that is reflected from its surf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-4680" y="0"/>
            <a:ext cx="9159840" cy="6629400"/>
            <a:chOff x="-4680" y="0"/>
            <a:chExt cx="9159840" cy="6629400"/>
          </a:xfrm>
        </p:grpSpPr>
        <p:grpSp>
          <p:nvGrpSpPr>
            <p:cNvPr id="101" name=""/>
            <p:cNvGrpSpPr/>
            <p:nvPr/>
          </p:nvGrpSpPr>
          <p:grpSpPr>
            <a:xfrm>
              <a:off x="316080" y="1523880"/>
              <a:ext cx="8534160" cy="5105520"/>
              <a:chOff x="316080" y="1523880"/>
              <a:chExt cx="8534160" cy="5105520"/>
            </a:xfrm>
          </p:grpSpPr>
          <p:sp>
            <p:nvSpPr>
              <p:cNvPr id="102" name=""/>
              <p:cNvSpPr/>
              <p:nvPr/>
            </p:nvSpPr>
            <p:spPr>
              <a:xfrm>
                <a:off x="31608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020960" y="1638360"/>
                <a:ext cx="3161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Ancient Greeks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-4680" y="0"/>
              <a:ext cx="9159840" cy="1430280"/>
              <a:chOff x="-4680" y="0"/>
              <a:chExt cx="9159840" cy="1430280"/>
            </a:xfrm>
          </p:grpSpPr>
          <p:sp>
            <p:nvSpPr>
              <p:cNvPr id="105" name=""/>
              <p:cNvSpPr/>
              <p:nvPr/>
            </p:nvSpPr>
            <p:spPr>
              <a:xfrm>
                <a:off x="180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06" name=""/>
              <p:cNvGrpSpPr/>
              <p:nvPr/>
            </p:nvGrpSpPr>
            <p:grpSpPr>
              <a:xfrm>
                <a:off x="-4680" y="0"/>
                <a:ext cx="9159840" cy="136440"/>
                <a:chOff x="-4680" y="0"/>
                <a:chExt cx="9159840" cy="13644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-468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-468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3240" y="1219320"/>
                <a:ext cx="9144000" cy="210960"/>
                <a:chOff x="3240" y="1219320"/>
                <a:chExt cx="9144000" cy="21096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324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324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2.1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 Early Astronomy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60360" y="2151000"/>
            <a:ext cx="7585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stronom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is the science that studies the universe. It includes the observation and interpretation of celestial bodies and phenomen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1260360" y="3886200"/>
            <a:ext cx="758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Greeks used philosophical arguments to explain natural phenomen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1260360" y="4767120"/>
            <a:ext cx="758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Greeks also used some observational dat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9" name=""/>
          <p:cNvGrpSpPr/>
          <p:nvPr/>
        </p:nvGrpSpPr>
        <p:grpSpPr>
          <a:xfrm>
            <a:off x="0" y="0"/>
            <a:ext cx="9159840" cy="1430280"/>
            <a:chOff x="0" y="0"/>
            <a:chExt cx="9159840" cy="1430280"/>
          </a:xfrm>
        </p:grpSpPr>
        <p:sp>
          <p:nvSpPr>
            <p:cNvPr id="500" name=""/>
            <p:cNvSpPr/>
            <p:nvPr/>
          </p:nvSpPr>
          <p:spPr>
            <a:xfrm>
              <a:off x="648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01" name=""/>
            <p:cNvGrpSpPr/>
            <p:nvPr/>
          </p:nvGrpSpPr>
          <p:grpSpPr>
            <a:xfrm>
              <a:off x="0" y="0"/>
              <a:ext cx="9159840" cy="136440"/>
              <a:chOff x="0" y="0"/>
              <a:chExt cx="9159840" cy="136440"/>
            </a:xfrm>
          </p:grpSpPr>
          <p:sp>
            <p:nvSpPr>
              <p:cNvPr id="502" name=""/>
              <p:cNvSpPr/>
              <p:nvPr/>
            </p:nvSpPr>
            <p:spPr>
              <a:xfrm>
                <a:off x="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7920" y="1219320"/>
              <a:ext cx="9144000" cy="210960"/>
              <a:chOff x="7920" y="1219320"/>
              <a:chExt cx="9144000" cy="210960"/>
            </a:xfrm>
          </p:grpSpPr>
          <p:sp>
            <p:nvSpPr>
              <p:cNvPr id="505" name=""/>
              <p:cNvSpPr/>
              <p:nvPr/>
            </p:nvSpPr>
            <p:spPr>
              <a:xfrm>
                <a:off x="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0" y="23184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2979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hases of the Mo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1028880" y="1563840"/>
            <a:ext cx="7086600" cy="5206680"/>
            <a:chOff x="1028880" y="1563840"/>
            <a:chExt cx="7086600" cy="5206680"/>
          </a:xfrm>
        </p:grpSpPr>
        <p:sp>
          <p:nvSpPr>
            <p:cNvPr id="509" name=""/>
            <p:cNvSpPr/>
            <p:nvPr/>
          </p:nvSpPr>
          <p:spPr>
            <a:xfrm>
              <a:off x="1028880" y="1563840"/>
              <a:ext cx="7086600" cy="5206680"/>
            </a:xfrm>
            <a:prstGeom prst="roundRect">
              <a:avLst>
                <a:gd name="adj" fmla="val 2213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510" name="" descr=""/>
            <p:cNvPicPr/>
            <p:nvPr/>
          </p:nvPicPr>
          <p:blipFill>
            <a:blip r:embed="rId1"/>
            <a:stretch/>
          </p:blipFill>
          <p:spPr>
            <a:xfrm>
              <a:off x="1593720" y="1725480"/>
              <a:ext cx="5954760" cy="4886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-3240" y="0"/>
            <a:ext cx="9159840" cy="6629400"/>
            <a:chOff x="-3240" y="0"/>
            <a:chExt cx="9159840" cy="6629400"/>
          </a:xfrm>
        </p:grpSpPr>
        <p:grpSp>
          <p:nvGrpSpPr>
            <p:cNvPr id="512" name=""/>
            <p:cNvGrpSpPr/>
            <p:nvPr/>
          </p:nvGrpSpPr>
          <p:grpSpPr>
            <a:xfrm>
              <a:off x="317520" y="1523880"/>
              <a:ext cx="8534160" cy="5105520"/>
              <a:chOff x="317520" y="1523880"/>
              <a:chExt cx="8534160" cy="5105520"/>
            </a:xfrm>
          </p:grpSpPr>
          <p:sp>
            <p:nvSpPr>
              <p:cNvPr id="513" name=""/>
              <p:cNvSpPr/>
              <p:nvPr/>
            </p:nvSpPr>
            <p:spPr>
              <a:xfrm>
                <a:off x="31752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022760" y="1638360"/>
                <a:ext cx="6976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Motions of the Earth–Moon System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15" name=""/>
            <p:cNvGrpSpPr/>
            <p:nvPr/>
          </p:nvGrpSpPr>
          <p:grpSpPr>
            <a:xfrm>
              <a:off x="-3240" y="0"/>
              <a:ext cx="9159840" cy="1430280"/>
              <a:chOff x="-3240" y="0"/>
              <a:chExt cx="9159840" cy="1430280"/>
            </a:xfrm>
          </p:grpSpPr>
          <p:sp>
            <p:nvSpPr>
              <p:cNvPr id="516" name=""/>
              <p:cNvSpPr/>
              <p:nvPr/>
            </p:nvSpPr>
            <p:spPr>
              <a:xfrm>
                <a:off x="324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17" name=""/>
              <p:cNvGrpSpPr/>
              <p:nvPr/>
            </p:nvGrpSpPr>
            <p:grpSpPr>
              <a:xfrm>
                <a:off x="-3240" y="0"/>
                <a:ext cx="9159840" cy="136440"/>
                <a:chOff x="-3240" y="0"/>
                <a:chExt cx="9159840" cy="136440"/>
              </a:xfrm>
            </p:grpSpPr>
            <p:sp>
              <p:nvSpPr>
                <p:cNvPr id="518" name=""/>
                <p:cNvSpPr/>
                <p:nvPr/>
              </p:nvSpPr>
              <p:spPr>
                <a:xfrm>
                  <a:off x="-324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-324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20" name=""/>
              <p:cNvGrpSpPr/>
              <p:nvPr/>
            </p:nvGrpSpPr>
            <p:grpSpPr>
              <a:xfrm>
                <a:off x="4680" y="1219320"/>
                <a:ext cx="9144000" cy="210960"/>
                <a:chOff x="4680" y="1219320"/>
                <a:chExt cx="9144000" cy="21096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468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468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d600"/>
                </a:solidFill>
                <a:latin typeface="Arial"/>
                <a:ea typeface="Times New Roman"/>
              </a:rPr>
              <a:t>22.2</a:t>
            </a:r>
            <a:r>
              <a:rPr b="1" lang="en-US" sz="4100" spc="-1" strike="noStrike">
                <a:solidFill>
                  <a:srgbClr val="ffffff"/>
                </a:solidFill>
                <a:latin typeface="Arial"/>
                <a:ea typeface="Times New Roman"/>
              </a:rPr>
              <a:t>  The Earth–Moon–Sun System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260360" y="2176560"/>
            <a:ext cx="76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unar Mo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"/>
          <p:cNvSpPr/>
          <p:nvPr/>
        </p:nvSpPr>
        <p:spPr>
          <a:xfrm>
            <a:off x="1736640" y="2655720"/>
            <a:ext cx="710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synodic month is based on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ycle of the moon’s phases. It lasts 29 1/2 day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"/>
          <p:cNvSpPr/>
          <p:nvPr/>
        </p:nvSpPr>
        <p:spPr>
          <a:xfrm>
            <a:off x="1736640" y="3449520"/>
            <a:ext cx="710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sidereal month is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ue period of the moon’s revolution around Earth. It lasts 27 1/3 day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7" name=""/>
          <p:cNvGrpSpPr/>
          <p:nvPr/>
        </p:nvGrpSpPr>
        <p:grpSpPr>
          <a:xfrm>
            <a:off x="-3240" y="0"/>
            <a:ext cx="9159840" cy="6629400"/>
            <a:chOff x="-3240" y="0"/>
            <a:chExt cx="9159840" cy="6629400"/>
          </a:xfrm>
        </p:grpSpPr>
        <p:grpSp>
          <p:nvGrpSpPr>
            <p:cNvPr id="528" name=""/>
            <p:cNvGrpSpPr/>
            <p:nvPr/>
          </p:nvGrpSpPr>
          <p:grpSpPr>
            <a:xfrm>
              <a:off x="317520" y="1523880"/>
              <a:ext cx="8534160" cy="5105520"/>
              <a:chOff x="317520" y="1523880"/>
              <a:chExt cx="8534160" cy="5105520"/>
            </a:xfrm>
          </p:grpSpPr>
          <p:sp>
            <p:nvSpPr>
              <p:cNvPr id="529" name=""/>
              <p:cNvSpPr/>
              <p:nvPr/>
            </p:nvSpPr>
            <p:spPr>
              <a:xfrm>
                <a:off x="31752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022760" y="1638360"/>
                <a:ext cx="6976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Motions of the Earth–Moon System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1" name=""/>
            <p:cNvGrpSpPr/>
            <p:nvPr/>
          </p:nvGrpSpPr>
          <p:grpSpPr>
            <a:xfrm>
              <a:off x="-3240" y="0"/>
              <a:ext cx="9159840" cy="1430280"/>
              <a:chOff x="-3240" y="0"/>
              <a:chExt cx="9159840" cy="1430280"/>
            </a:xfrm>
          </p:grpSpPr>
          <p:sp>
            <p:nvSpPr>
              <p:cNvPr id="532" name=""/>
              <p:cNvSpPr/>
              <p:nvPr/>
            </p:nvSpPr>
            <p:spPr>
              <a:xfrm>
                <a:off x="324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"/>
              <p:cNvGrpSpPr/>
              <p:nvPr/>
            </p:nvGrpSpPr>
            <p:grpSpPr>
              <a:xfrm>
                <a:off x="-3240" y="0"/>
                <a:ext cx="9159840" cy="136440"/>
                <a:chOff x="-3240" y="0"/>
                <a:chExt cx="9159840" cy="13644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-324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-324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36" name=""/>
              <p:cNvGrpSpPr/>
              <p:nvPr/>
            </p:nvGrpSpPr>
            <p:grpSpPr>
              <a:xfrm>
                <a:off x="4680" y="1219320"/>
                <a:ext cx="9144000" cy="210960"/>
                <a:chOff x="4680" y="1219320"/>
                <a:chExt cx="9144000" cy="21096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468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468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d600"/>
                </a:solidFill>
                <a:latin typeface="Arial"/>
                <a:ea typeface="Times New Roman"/>
              </a:rPr>
              <a:t>22.2 </a:t>
            </a:r>
            <a:r>
              <a:rPr b="1" lang="en-US" sz="4100" spc="-1" strike="noStrike">
                <a:solidFill>
                  <a:srgbClr val="ffffff"/>
                </a:solidFill>
                <a:latin typeface="Arial"/>
                <a:ea typeface="Times New Roman"/>
              </a:rPr>
              <a:t> The Earth–Moon–Sun System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736640" y="2658960"/>
            <a:ext cx="71247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difference of two days between the synodic and sidereal cycles is due to the Earth–moon system also moving in an orbit around the su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"/>
          <p:cNvSpPr/>
          <p:nvPr/>
        </p:nvSpPr>
        <p:spPr>
          <a:xfrm>
            <a:off x="1260360" y="2176560"/>
            <a:ext cx="76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unar Mo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"/>
          <p:cNvSpPr/>
          <p:nvPr/>
        </p:nvSpPr>
        <p:spPr>
          <a:xfrm>
            <a:off x="1736640" y="3726000"/>
            <a:ext cx="71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moon’s period of rotation about its axis and its revolution around Earth are the same, 27 1/3 days. It causes the same lunar hemisphere to always face Eart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3" name=""/>
          <p:cNvGrpSpPr/>
          <p:nvPr/>
        </p:nvGrpSpPr>
        <p:grpSpPr>
          <a:xfrm>
            <a:off x="0" y="0"/>
            <a:ext cx="9159840" cy="1430280"/>
            <a:chOff x="0" y="0"/>
            <a:chExt cx="9159840" cy="1430280"/>
          </a:xfrm>
        </p:grpSpPr>
        <p:sp>
          <p:nvSpPr>
            <p:cNvPr id="544" name=""/>
            <p:cNvSpPr/>
            <p:nvPr/>
          </p:nvSpPr>
          <p:spPr>
            <a:xfrm>
              <a:off x="648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45" name=""/>
            <p:cNvGrpSpPr/>
            <p:nvPr/>
          </p:nvGrpSpPr>
          <p:grpSpPr>
            <a:xfrm>
              <a:off x="0" y="0"/>
              <a:ext cx="9159840" cy="136440"/>
              <a:chOff x="0" y="0"/>
              <a:chExt cx="9159840" cy="136440"/>
            </a:xfrm>
          </p:grpSpPr>
          <p:sp>
            <p:nvSpPr>
              <p:cNvPr id="546" name=""/>
              <p:cNvSpPr/>
              <p:nvPr/>
            </p:nvSpPr>
            <p:spPr>
              <a:xfrm>
                <a:off x="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7920" y="1219320"/>
              <a:ext cx="9144000" cy="210960"/>
              <a:chOff x="7920" y="1219320"/>
              <a:chExt cx="9144000" cy="210960"/>
            </a:xfrm>
          </p:grpSpPr>
          <p:sp>
            <p:nvSpPr>
              <p:cNvPr id="549" name=""/>
              <p:cNvSpPr/>
              <p:nvPr/>
            </p:nvSpPr>
            <p:spPr>
              <a:xfrm>
                <a:off x="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0" y="23184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2979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unar Mo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355680" y="1859040"/>
            <a:ext cx="8432640" cy="4483080"/>
            <a:chOff x="355680" y="1859040"/>
            <a:chExt cx="8432640" cy="4483080"/>
          </a:xfrm>
        </p:grpSpPr>
        <p:sp>
          <p:nvSpPr>
            <p:cNvPr id="553" name=""/>
            <p:cNvSpPr/>
            <p:nvPr/>
          </p:nvSpPr>
          <p:spPr>
            <a:xfrm>
              <a:off x="355680" y="1859040"/>
              <a:ext cx="8432640" cy="4483080"/>
            </a:xfrm>
            <a:prstGeom prst="roundRect">
              <a:avLst>
                <a:gd name="adj" fmla="val 2213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554" name="" descr=""/>
            <p:cNvPicPr/>
            <p:nvPr/>
          </p:nvPicPr>
          <p:blipFill>
            <a:blip r:embed="rId1"/>
            <a:stretch/>
          </p:blipFill>
          <p:spPr>
            <a:xfrm>
              <a:off x="785880" y="2352960"/>
              <a:ext cx="7572240" cy="3494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5" name=""/>
          <p:cNvGrpSpPr/>
          <p:nvPr/>
        </p:nvGrpSpPr>
        <p:grpSpPr>
          <a:xfrm>
            <a:off x="-3240" y="0"/>
            <a:ext cx="9159840" cy="6629400"/>
            <a:chOff x="-3240" y="0"/>
            <a:chExt cx="9159840" cy="6629400"/>
          </a:xfrm>
        </p:grpSpPr>
        <p:grpSp>
          <p:nvGrpSpPr>
            <p:cNvPr id="556" name=""/>
            <p:cNvGrpSpPr/>
            <p:nvPr/>
          </p:nvGrpSpPr>
          <p:grpSpPr>
            <a:xfrm>
              <a:off x="317520" y="1523880"/>
              <a:ext cx="8534160" cy="5105520"/>
              <a:chOff x="317520" y="1523880"/>
              <a:chExt cx="8534160" cy="5105520"/>
            </a:xfrm>
          </p:grpSpPr>
          <p:sp>
            <p:nvSpPr>
              <p:cNvPr id="557" name=""/>
              <p:cNvSpPr/>
              <p:nvPr/>
            </p:nvSpPr>
            <p:spPr>
              <a:xfrm>
                <a:off x="31752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023120" y="1638360"/>
                <a:ext cx="1828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Eclipses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-3240" y="0"/>
              <a:ext cx="9159840" cy="1430280"/>
              <a:chOff x="-3240" y="0"/>
              <a:chExt cx="9159840" cy="1430280"/>
            </a:xfrm>
          </p:grpSpPr>
          <p:sp>
            <p:nvSpPr>
              <p:cNvPr id="560" name=""/>
              <p:cNvSpPr/>
              <p:nvPr/>
            </p:nvSpPr>
            <p:spPr>
              <a:xfrm>
                <a:off x="324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61" name=""/>
              <p:cNvGrpSpPr/>
              <p:nvPr/>
            </p:nvGrpSpPr>
            <p:grpSpPr>
              <a:xfrm>
                <a:off x="-3240" y="0"/>
                <a:ext cx="9159840" cy="136440"/>
                <a:chOff x="-3240" y="0"/>
                <a:chExt cx="9159840" cy="136440"/>
              </a:xfrm>
            </p:grpSpPr>
            <p:sp>
              <p:nvSpPr>
                <p:cNvPr id="562" name=""/>
                <p:cNvSpPr/>
                <p:nvPr/>
              </p:nvSpPr>
              <p:spPr>
                <a:xfrm>
                  <a:off x="-324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-324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64" name=""/>
              <p:cNvGrpSpPr/>
              <p:nvPr/>
            </p:nvGrpSpPr>
            <p:grpSpPr>
              <a:xfrm>
                <a:off x="4680" y="1219320"/>
                <a:ext cx="9144000" cy="210960"/>
                <a:chOff x="4680" y="1219320"/>
                <a:chExt cx="9144000" cy="210960"/>
              </a:xfrm>
            </p:grpSpPr>
            <p:sp>
              <p:nvSpPr>
                <p:cNvPr id="565" name=""/>
                <p:cNvSpPr/>
                <p:nvPr/>
              </p:nvSpPr>
              <p:spPr>
                <a:xfrm>
                  <a:off x="468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468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d600"/>
                </a:solidFill>
                <a:latin typeface="Arial"/>
                <a:ea typeface="Times New Roman"/>
              </a:rPr>
              <a:t>22.2 </a:t>
            </a:r>
            <a:r>
              <a:rPr b="1" lang="en-US" sz="4100" spc="-1" strike="noStrike">
                <a:solidFill>
                  <a:srgbClr val="ffffff"/>
                </a:solidFill>
                <a:latin typeface="Arial"/>
                <a:ea typeface="Times New Roman"/>
              </a:rPr>
              <a:t> The Earth–Moon–Sun System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260360" y="2176560"/>
            <a:ext cx="7635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olar eclip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occur when the moon moves in a line directly between Earth and the sun, casting a shadow on Eart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"/>
          <p:cNvSpPr/>
          <p:nvPr/>
        </p:nvSpPr>
        <p:spPr>
          <a:xfrm>
            <a:off x="1260360" y="4424400"/>
            <a:ext cx="7317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uring a new-moon or full-moon phase, the moon’s orbit must cross the plane of the ecliptic for an eclipse to take pla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"/>
          <p:cNvSpPr/>
          <p:nvPr/>
        </p:nvSpPr>
        <p:spPr>
          <a:xfrm>
            <a:off x="1260360" y="3514680"/>
            <a:ext cx="763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unar eclip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occur when the moon passes through Earth’s shadow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"/>
          <p:cNvGrpSpPr/>
          <p:nvPr/>
        </p:nvGrpSpPr>
        <p:grpSpPr>
          <a:xfrm>
            <a:off x="0" y="0"/>
            <a:ext cx="9159840" cy="1430280"/>
            <a:chOff x="0" y="0"/>
            <a:chExt cx="9159840" cy="1430280"/>
          </a:xfrm>
        </p:grpSpPr>
        <p:sp>
          <p:nvSpPr>
            <p:cNvPr id="572" name=""/>
            <p:cNvSpPr/>
            <p:nvPr/>
          </p:nvSpPr>
          <p:spPr>
            <a:xfrm>
              <a:off x="648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73" name=""/>
            <p:cNvGrpSpPr/>
            <p:nvPr/>
          </p:nvGrpSpPr>
          <p:grpSpPr>
            <a:xfrm>
              <a:off x="0" y="0"/>
              <a:ext cx="9159840" cy="136440"/>
              <a:chOff x="0" y="0"/>
              <a:chExt cx="9159840" cy="136440"/>
            </a:xfrm>
          </p:grpSpPr>
          <p:sp>
            <p:nvSpPr>
              <p:cNvPr id="574" name=""/>
              <p:cNvSpPr/>
              <p:nvPr/>
            </p:nvSpPr>
            <p:spPr>
              <a:xfrm>
                <a:off x="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76" name=""/>
            <p:cNvGrpSpPr/>
            <p:nvPr/>
          </p:nvGrpSpPr>
          <p:grpSpPr>
            <a:xfrm>
              <a:off x="7920" y="1219320"/>
              <a:ext cx="9144000" cy="210960"/>
              <a:chOff x="7920" y="1219320"/>
              <a:chExt cx="9144000" cy="210960"/>
            </a:xfrm>
          </p:grpSpPr>
          <p:sp>
            <p:nvSpPr>
              <p:cNvPr id="577" name=""/>
              <p:cNvSpPr/>
              <p:nvPr/>
            </p:nvSpPr>
            <p:spPr>
              <a:xfrm>
                <a:off x="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0" y="23184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2979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olar Eclip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247680" y="1905120"/>
            <a:ext cx="8648640" cy="4368600"/>
            <a:chOff x="247680" y="1905120"/>
            <a:chExt cx="8648640" cy="4368600"/>
          </a:xfrm>
        </p:grpSpPr>
        <p:sp>
          <p:nvSpPr>
            <p:cNvPr id="581" name=""/>
            <p:cNvSpPr/>
            <p:nvPr/>
          </p:nvSpPr>
          <p:spPr>
            <a:xfrm>
              <a:off x="247680" y="1905120"/>
              <a:ext cx="8648640" cy="4368600"/>
            </a:xfrm>
            <a:prstGeom prst="roundRect">
              <a:avLst>
                <a:gd name="adj" fmla="val 2213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582" name="" descr=""/>
            <p:cNvPicPr/>
            <p:nvPr/>
          </p:nvPicPr>
          <p:blipFill>
            <a:blip r:embed="rId1"/>
            <a:stretch/>
          </p:blipFill>
          <p:spPr>
            <a:xfrm>
              <a:off x="546120" y="2297160"/>
              <a:ext cx="8051760" cy="3584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3" name=""/>
          <p:cNvGrpSpPr/>
          <p:nvPr/>
        </p:nvGrpSpPr>
        <p:grpSpPr>
          <a:xfrm>
            <a:off x="0" y="0"/>
            <a:ext cx="9159840" cy="1430280"/>
            <a:chOff x="0" y="0"/>
            <a:chExt cx="9159840" cy="1430280"/>
          </a:xfrm>
        </p:grpSpPr>
        <p:sp>
          <p:nvSpPr>
            <p:cNvPr id="584" name=""/>
            <p:cNvSpPr/>
            <p:nvPr/>
          </p:nvSpPr>
          <p:spPr>
            <a:xfrm>
              <a:off x="648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85" name=""/>
            <p:cNvGrpSpPr/>
            <p:nvPr/>
          </p:nvGrpSpPr>
          <p:grpSpPr>
            <a:xfrm>
              <a:off x="0" y="0"/>
              <a:ext cx="9159840" cy="136440"/>
              <a:chOff x="0" y="0"/>
              <a:chExt cx="9159840" cy="136440"/>
            </a:xfrm>
          </p:grpSpPr>
          <p:sp>
            <p:nvSpPr>
              <p:cNvPr id="586" name=""/>
              <p:cNvSpPr/>
              <p:nvPr/>
            </p:nvSpPr>
            <p:spPr>
              <a:xfrm>
                <a:off x="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7920" y="1219320"/>
              <a:ext cx="9144000" cy="210960"/>
              <a:chOff x="7920" y="1219320"/>
              <a:chExt cx="9144000" cy="210960"/>
            </a:xfrm>
          </p:grpSpPr>
          <p:sp>
            <p:nvSpPr>
              <p:cNvPr id="589" name=""/>
              <p:cNvSpPr/>
              <p:nvPr/>
            </p:nvSpPr>
            <p:spPr>
              <a:xfrm>
                <a:off x="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0" y="23184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2979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unar Eclip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247680" y="1905120"/>
            <a:ext cx="8648640" cy="4368600"/>
            <a:chOff x="247680" y="1905120"/>
            <a:chExt cx="8648640" cy="4368600"/>
          </a:xfrm>
        </p:grpSpPr>
        <p:sp>
          <p:nvSpPr>
            <p:cNvPr id="593" name=""/>
            <p:cNvSpPr/>
            <p:nvPr/>
          </p:nvSpPr>
          <p:spPr>
            <a:xfrm>
              <a:off x="247680" y="1905120"/>
              <a:ext cx="8648640" cy="4368600"/>
            </a:xfrm>
            <a:prstGeom prst="roundRect">
              <a:avLst>
                <a:gd name="adj" fmla="val 2213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594" name="" descr=""/>
            <p:cNvPicPr/>
            <p:nvPr/>
          </p:nvPicPr>
          <p:blipFill>
            <a:blip r:embed="rId1"/>
            <a:stretch/>
          </p:blipFill>
          <p:spPr>
            <a:xfrm>
              <a:off x="681120" y="2266920"/>
              <a:ext cx="7781760" cy="3645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5" name=""/>
          <p:cNvGrpSpPr/>
          <p:nvPr/>
        </p:nvGrpSpPr>
        <p:grpSpPr>
          <a:xfrm>
            <a:off x="-3240" y="0"/>
            <a:ext cx="9159840" cy="6629400"/>
            <a:chOff x="-3240" y="0"/>
            <a:chExt cx="9159840" cy="6629400"/>
          </a:xfrm>
        </p:grpSpPr>
        <p:grpSp>
          <p:nvGrpSpPr>
            <p:cNvPr id="596" name=""/>
            <p:cNvGrpSpPr/>
            <p:nvPr/>
          </p:nvGrpSpPr>
          <p:grpSpPr>
            <a:xfrm>
              <a:off x="317520" y="1523880"/>
              <a:ext cx="8534160" cy="5105520"/>
              <a:chOff x="317520" y="1523880"/>
              <a:chExt cx="8534160" cy="5105520"/>
            </a:xfrm>
          </p:grpSpPr>
          <p:sp>
            <p:nvSpPr>
              <p:cNvPr id="597" name=""/>
              <p:cNvSpPr/>
              <p:nvPr/>
            </p:nvSpPr>
            <p:spPr>
              <a:xfrm>
                <a:off x="31752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022760" y="1638360"/>
                <a:ext cx="3748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The Lunar Surface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-3240" y="0"/>
              <a:ext cx="9159840" cy="1430280"/>
              <a:chOff x="-3240" y="0"/>
              <a:chExt cx="9159840" cy="1430280"/>
            </a:xfrm>
          </p:grpSpPr>
          <p:sp>
            <p:nvSpPr>
              <p:cNvPr id="600" name=""/>
              <p:cNvSpPr/>
              <p:nvPr/>
            </p:nvSpPr>
            <p:spPr>
              <a:xfrm>
                <a:off x="324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01" name=""/>
              <p:cNvGrpSpPr/>
              <p:nvPr/>
            </p:nvGrpSpPr>
            <p:grpSpPr>
              <a:xfrm>
                <a:off x="-3240" y="0"/>
                <a:ext cx="9159840" cy="136440"/>
                <a:chOff x="-3240" y="0"/>
                <a:chExt cx="9159840" cy="136440"/>
              </a:xfrm>
            </p:grpSpPr>
            <p:sp>
              <p:nvSpPr>
                <p:cNvPr id="602" name=""/>
                <p:cNvSpPr/>
                <p:nvPr/>
              </p:nvSpPr>
              <p:spPr>
                <a:xfrm>
                  <a:off x="-324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-324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04" name=""/>
              <p:cNvGrpSpPr/>
              <p:nvPr/>
            </p:nvGrpSpPr>
            <p:grpSpPr>
              <a:xfrm>
                <a:off x="4680" y="1219320"/>
                <a:ext cx="9144000" cy="210960"/>
                <a:chOff x="4680" y="1219320"/>
                <a:chExt cx="9144000" cy="210960"/>
              </a:xfrm>
            </p:grpSpPr>
            <p:sp>
              <p:nvSpPr>
                <p:cNvPr id="605" name=""/>
                <p:cNvSpPr/>
                <p:nvPr/>
              </p:nvSpPr>
              <p:spPr>
                <a:xfrm>
                  <a:off x="468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468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2.3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Earth’s Mo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736640" y="2646360"/>
            <a:ext cx="7086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ra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s the depression at the summit of a volcano or a depression produced by a meteorite impa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"/>
          <p:cNvSpPr/>
          <p:nvPr/>
        </p:nvSpPr>
        <p:spPr>
          <a:xfrm>
            <a:off x="1260360" y="2163600"/>
            <a:ext cx="76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r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"/>
          <p:cNvSpPr/>
          <p:nvPr/>
        </p:nvSpPr>
        <p:spPr>
          <a:xfrm>
            <a:off x="1736640" y="3701880"/>
            <a:ext cx="711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st craters were produced by the impact of rapidly moving debri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"/>
          <p:cNvSpPr/>
          <p:nvPr/>
        </p:nvSpPr>
        <p:spPr>
          <a:xfrm>
            <a:off x="1736640" y="4487760"/>
            <a:ext cx="711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a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re any of a system of bright, elongated streaks, sometimes associated with a crater on the mo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"/>
          <p:cNvGrpSpPr/>
          <p:nvPr/>
        </p:nvGrpSpPr>
        <p:grpSpPr>
          <a:xfrm>
            <a:off x="0" y="0"/>
            <a:ext cx="9159840" cy="1430280"/>
            <a:chOff x="0" y="0"/>
            <a:chExt cx="9159840" cy="1430280"/>
          </a:xfrm>
        </p:grpSpPr>
        <p:sp>
          <p:nvSpPr>
            <p:cNvPr id="613" name=""/>
            <p:cNvSpPr/>
            <p:nvPr/>
          </p:nvSpPr>
          <p:spPr>
            <a:xfrm>
              <a:off x="648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14" name=""/>
            <p:cNvGrpSpPr/>
            <p:nvPr/>
          </p:nvGrpSpPr>
          <p:grpSpPr>
            <a:xfrm>
              <a:off x="0" y="0"/>
              <a:ext cx="9159840" cy="136440"/>
              <a:chOff x="0" y="0"/>
              <a:chExt cx="9159840" cy="136440"/>
            </a:xfrm>
          </p:grpSpPr>
          <p:sp>
            <p:nvSpPr>
              <p:cNvPr id="615" name=""/>
              <p:cNvSpPr/>
              <p:nvPr/>
            </p:nvSpPr>
            <p:spPr>
              <a:xfrm>
                <a:off x="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17" name=""/>
            <p:cNvGrpSpPr/>
            <p:nvPr/>
          </p:nvGrpSpPr>
          <p:grpSpPr>
            <a:xfrm>
              <a:off x="7920" y="1219320"/>
              <a:ext cx="9144000" cy="210960"/>
              <a:chOff x="7920" y="1219320"/>
              <a:chExt cx="9144000" cy="210960"/>
            </a:xfrm>
          </p:grpSpPr>
          <p:sp>
            <p:nvSpPr>
              <p:cNvPr id="618" name=""/>
              <p:cNvSpPr/>
              <p:nvPr/>
            </p:nvSpPr>
            <p:spPr>
              <a:xfrm>
                <a:off x="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0" y="23184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2979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Moon’s Surfa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1822320" y="1592280"/>
            <a:ext cx="5499360" cy="5092560"/>
            <a:chOff x="1822320" y="1592280"/>
            <a:chExt cx="5499360" cy="5092560"/>
          </a:xfrm>
        </p:grpSpPr>
        <p:sp>
          <p:nvSpPr>
            <p:cNvPr id="622" name=""/>
            <p:cNvSpPr/>
            <p:nvPr/>
          </p:nvSpPr>
          <p:spPr>
            <a:xfrm>
              <a:off x="1822320" y="1592280"/>
              <a:ext cx="5499360" cy="5092560"/>
            </a:xfrm>
            <a:prstGeom prst="roundRect">
              <a:avLst>
                <a:gd name="adj" fmla="val 2213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623" name="" descr=""/>
            <p:cNvPicPr/>
            <p:nvPr/>
          </p:nvPicPr>
          <p:blipFill>
            <a:blip r:embed="rId1"/>
            <a:stretch/>
          </p:blipFill>
          <p:spPr>
            <a:xfrm>
              <a:off x="2419200" y="2050920"/>
              <a:ext cx="4303800" cy="417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4" name=""/>
          <p:cNvGrpSpPr/>
          <p:nvPr/>
        </p:nvGrpSpPr>
        <p:grpSpPr>
          <a:xfrm>
            <a:off x="380880" y="1592280"/>
            <a:ext cx="8382240" cy="5092560"/>
            <a:chOff x="380880" y="1592280"/>
            <a:chExt cx="8382240" cy="5092560"/>
          </a:xfrm>
        </p:grpSpPr>
        <p:sp>
          <p:nvSpPr>
            <p:cNvPr id="625" name=""/>
            <p:cNvSpPr/>
            <p:nvPr/>
          </p:nvSpPr>
          <p:spPr>
            <a:xfrm>
              <a:off x="380880" y="1592280"/>
              <a:ext cx="8382240" cy="5092560"/>
            </a:xfrm>
            <a:prstGeom prst="roundRect">
              <a:avLst>
                <a:gd name="adj" fmla="val 2213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26" name=""/>
            <p:cNvGrpSpPr/>
            <p:nvPr/>
          </p:nvGrpSpPr>
          <p:grpSpPr>
            <a:xfrm>
              <a:off x="682560" y="2138400"/>
              <a:ext cx="7771680" cy="4000320"/>
              <a:chOff x="682560" y="2138400"/>
              <a:chExt cx="7771680" cy="4000320"/>
            </a:xfrm>
          </p:grpSpPr>
          <p:pic>
            <p:nvPicPr>
              <p:cNvPr id="62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396880" y="2138400"/>
                <a:ext cx="4122720" cy="400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8" name=""/>
              <p:cNvSpPr/>
              <p:nvPr/>
            </p:nvSpPr>
            <p:spPr>
              <a:xfrm>
                <a:off x="6579000" y="3887640"/>
                <a:ext cx="18752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are Tranquillitatus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(Sea of Tranquility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29" name=""/>
              <p:cNvGrpSpPr/>
              <p:nvPr/>
            </p:nvGrpSpPr>
            <p:grpSpPr>
              <a:xfrm>
                <a:off x="682560" y="3024360"/>
                <a:ext cx="1369440" cy="2247480"/>
                <a:chOff x="682560" y="3024360"/>
                <a:chExt cx="1369440" cy="224748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682560" y="3024360"/>
                  <a:ext cx="136944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Mare Imbrium</a:t>
                  </a:r>
                  <a:endParaRPr b="0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(Sea of Rains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endParaRPr b="0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999720" y="3900600"/>
                  <a:ext cx="73548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Kepl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rat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786960" y="4751640"/>
                  <a:ext cx="11592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opernicus</a:t>
                  </a:r>
                  <a:endParaRPr b="0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rat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33" name=""/>
              <p:cNvSpPr/>
              <p:nvPr/>
            </p:nvSpPr>
            <p:spPr>
              <a:xfrm>
                <a:off x="1982520" y="3289320"/>
                <a:ext cx="1816200" cy="12708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V="1">
                <a:off x="1690560" y="4088880"/>
                <a:ext cx="1498680" cy="6372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V="1">
                <a:off x="1919160" y="4088880"/>
                <a:ext cx="1727280" cy="86364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H="1" flipV="1">
                <a:off x="5182560" y="4114440"/>
                <a:ext cx="1498680" cy="88920"/>
              </a:xfrm>
              <a:prstGeom prst="line">
                <a:avLst/>
              </a:prstGeom>
              <a:ln w="507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"/>
          <p:cNvGrpSpPr/>
          <p:nvPr/>
        </p:nvGrpSpPr>
        <p:grpSpPr>
          <a:xfrm>
            <a:off x="0" y="0"/>
            <a:ext cx="9159840" cy="1430280"/>
            <a:chOff x="0" y="0"/>
            <a:chExt cx="9159840" cy="1430280"/>
          </a:xfrm>
        </p:grpSpPr>
        <p:sp>
          <p:nvSpPr>
            <p:cNvPr id="638" name=""/>
            <p:cNvSpPr/>
            <p:nvPr/>
          </p:nvSpPr>
          <p:spPr>
            <a:xfrm>
              <a:off x="648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39" name=""/>
            <p:cNvGrpSpPr/>
            <p:nvPr/>
          </p:nvGrpSpPr>
          <p:grpSpPr>
            <a:xfrm>
              <a:off x="0" y="0"/>
              <a:ext cx="9159840" cy="136440"/>
              <a:chOff x="0" y="0"/>
              <a:chExt cx="9159840" cy="136440"/>
            </a:xfrm>
          </p:grpSpPr>
          <p:sp>
            <p:nvSpPr>
              <p:cNvPr id="640" name=""/>
              <p:cNvSpPr/>
              <p:nvPr/>
            </p:nvSpPr>
            <p:spPr>
              <a:xfrm>
                <a:off x="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42" name=""/>
            <p:cNvGrpSpPr/>
            <p:nvPr/>
          </p:nvGrpSpPr>
          <p:grpSpPr>
            <a:xfrm>
              <a:off x="7920" y="1219320"/>
              <a:ext cx="9144000" cy="210960"/>
              <a:chOff x="7920" y="1219320"/>
              <a:chExt cx="9144000" cy="210960"/>
            </a:xfrm>
          </p:grpSpPr>
          <p:sp>
            <p:nvSpPr>
              <p:cNvPr id="643" name=""/>
              <p:cNvSpPr/>
              <p:nvPr/>
            </p:nvSpPr>
            <p:spPr>
              <a:xfrm>
                <a:off x="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0" y="23184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2979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rmation of a Cra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2800440" y="1604880"/>
            <a:ext cx="3543120" cy="5092920"/>
            <a:chOff x="2800440" y="1604880"/>
            <a:chExt cx="3543120" cy="5092920"/>
          </a:xfrm>
        </p:grpSpPr>
        <p:sp>
          <p:nvSpPr>
            <p:cNvPr id="647" name=""/>
            <p:cNvSpPr/>
            <p:nvPr/>
          </p:nvSpPr>
          <p:spPr>
            <a:xfrm>
              <a:off x="2800440" y="1604880"/>
              <a:ext cx="3543120" cy="5092920"/>
            </a:xfrm>
            <a:custGeom>
              <a:avLst/>
              <a:gdLst>
                <a:gd name="textAreaLeft" fmla="*/ 229320 w 3543120"/>
                <a:gd name="textAreaRight" fmla="*/ 3313800 w 3543120"/>
                <a:gd name="textAreaTop" fmla="*/ 229320 h 5092920"/>
                <a:gd name="textAreaBottom" fmla="*/ 4863600 h 5092920"/>
              </a:gdLst>
              <a:ahLst/>
              <a:rect l="textAreaLeft" t="textAreaTop" r="textAreaRight" b="textAreaBottom"/>
              <a:pathLst>
                <a:path w="21600" h="31047">
                  <a:moveTo>
                    <a:pt x="4780" y="0"/>
                  </a:moveTo>
                  <a:arcTo wR="4780" hR="4780" stAng="16200000" swAng="-5400000"/>
                  <a:lnTo>
                    <a:pt x="0" y="26267"/>
                  </a:lnTo>
                  <a:arcTo wR="4780" hR="4780" stAng="10800000" swAng="-5400000"/>
                  <a:lnTo>
                    <a:pt x="16820" y="31047"/>
                  </a:lnTo>
                  <a:arcTo wR="4780" hR="4780" stAng="5400000" swAng="-5400000"/>
                  <a:lnTo>
                    <a:pt x="21600" y="4780"/>
                  </a:lnTo>
                  <a:arcTo wR="4780" hR="478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648" name="" descr=""/>
            <p:cNvPicPr/>
            <p:nvPr/>
          </p:nvPicPr>
          <p:blipFill>
            <a:blip r:embed="rId1"/>
            <a:stretch/>
          </p:blipFill>
          <p:spPr>
            <a:xfrm>
              <a:off x="3354480" y="1811160"/>
              <a:ext cx="2435040" cy="4681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0" y="0"/>
            <a:ext cx="9159840" cy="1430280"/>
            <a:chOff x="0" y="0"/>
            <a:chExt cx="9159840" cy="1430280"/>
          </a:xfrm>
        </p:grpSpPr>
        <p:sp>
          <p:nvSpPr>
            <p:cNvPr id="117" name=""/>
            <p:cNvSpPr/>
            <p:nvPr/>
          </p:nvSpPr>
          <p:spPr>
            <a:xfrm>
              <a:off x="648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0"/>
              <a:ext cx="9159840" cy="136440"/>
              <a:chOff x="0" y="0"/>
              <a:chExt cx="9159840" cy="13644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7920" y="1219320"/>
              <a:ext cx="9144000" cy="210960"/>
              <a:chOff x="7920" y="1219320"/>
              <a:chExt cx="9144000" cy="210960"/>
            </a:xfrm>
          </p:grpSpPr>
          <p:sp>
            <p:nvSpPr>
              <p:cNvPr id="122" name=""/>
              <p:cNvSpPr/>
              <p:nvPr/>
            </p:nvSpPr>
            <p:spPr>
              <a:xfrm>
                <a:off x="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23184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2979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strolab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178000" y="1593720"/>
            <a:ext cx="4788000" cy="5092560"/>
            <a:chOff x="2178000" y="1593720"/>
            <a:chExt cx="4788000" cy="5092560"/>
          </a:xfrm>
        </p:grpSpPr>
        <p:sp>
          <p:nvSpPr>
            <p:cNvPr id="126" name=""/>
            <p:cNvSpPr/>
            <p:nvPr/>
          </p:nvSpPr>
          <p:spPr>
            <a:xfrm>
              <a:off x="2178000" y="1593720"/>
              <a:ext cx="4788000" cy="5092560"/>
            </a:xfrm>
            <a:custGeom>
              <a:avLst/>
              <a:gdLst>
                <a:gd name="textAreaLeft" fmla="*/ 310320 w 4788000"/>
                <a:gd name="textAreaRight" fmla="*/ 4477680 w 4788000"/>
                <a:gd name="textAreaTop" fmla="*/ 310320 h 5092560"/>
                <a:gd name="textAreaBottom" fmla="*/ 4782240 h 5092560"/>
              </a:gdLst>
              <a:ahLst/>
              <a:rect l="textAreaLeft" t="textAreaTop" r="textAreaRight" b="textAreaBottom"/>
              <a:pathLst>
                <a:path w="21600" h="22974">
                  <a:moveTo>
                    <a:pt x="4780" y="0"/>
                  </a:moveTo>
                  <a:arcTo wR="4780" hR="4780" stAng="16200000" swAng="-5400000"/>
                  <a:lnTo>
                    <a:pt x="0" y="18194"/>
                  </a:lnTo>
                  <a:arcTo wR="4780" hR="4780" stAng="10800000" swAng="-5400000"/>
                  <a:lnTo>
                    <a:pt x="16820" y="22974"/>
                  </a:lnTo>
                  <a:arcTo wR="4780" hR="4780" stAng="5400000" swAng="-5400000"/>
                  <a:lnTo>
                    <a:pt x="21600" y="4780"/>
                  </a:lnTo>
                  <a:arcTo wR="4780" hR="478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127" name="" descr=""/>
            <p:cNvPicPr/>
            <p:nvPr/>
          </p:nvPicPr>
          <p:blipFill>
            <a:blip r:embed="rId1"/>
            <a:stretch/>
          </p:blipFill>
          <p:spPr>
            <a:xfrm>
              <a:off x="2670120" y="1773000"/>
              <a:ext cx="3803760" cy="4735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9" name=""/>
          <p:cNvGrpSpPr/>
          <p:nvPr/>
        </p:nvGrpSpPr>
        <p:grpSpPr>
          <a:xfrm>
            <a:off x="-3240" y="0"/>
            <a:ext cx="9159840" cy="6629400"/>
            <a:chOff x="-3240" y="0"/>
            <a:chExt cx="9159840" cy="6629400"/>
          </a:xfrm>
        </p:grpSpPr>
        <p:grpSp>
          <p:nvGrpSpPr>
            <p:cNvPr id="650" name=""/>
            <p:cNvGrpSpPr/>
            <p:nvPr/>
          </p:nvGrpSpPr>
          <p:grpSpPr>
            <a:xfrm>
              <a:off x="317520" y="1523880"/>
              <a:ext cx="8534160" cy="5105520"/>
              <a:chOff x="317520" y="1523880"/>
              <a:chExt cx="8534160" cy="5105520"/>
            </a:xfrm>
          </p:grpSpPr>
          <p:sp>
            <p:nvSpPr>
              <p:cNvPr id="651" name=""/>
              <p:cNvSpPr/>
              <p:nvPr/>
            </p:nvSpPr>
            <p:spPr>
              <a:xfrm>
                <a:off x="31752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1022760" y="1638360"/>
                <a:ext cx="3748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The Lunar Surface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53" name=""/>
            <p:cNvGrpSpPr/>
            <p:nvPr/>
          </p:nvGrpSpPr>
          <p:grpSpPr>
            <a:xfrm>
              <a:off x="-3240" y="0"/>
              <a:ext cx="9159840" cy="1430280"/>
              <a:chOff x="-3240" y="0"/>
              <a:chExt cx="9159840" cy="1430280"/>
            </a:xfrm>
          </p:grpSpPr>
          <p:sp>
            <p:nvSpPr>
              <p:cNvPr id="654" name=""/>
              <p:cNvSpPr/>
              <p:nvPr/>
            </p:nvSpPr>
            <p:spPr>
              <a:xfrm>
                <a:off x="324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55" name=""/>
              <p:cNvGrpSpPr/>
              <p:nvPr/>
            </p:nvGrpSpPr>
            <p:grpSpPr>
              <a:xfrm>
                <a:off x="-3240" y="0"/>
                <a:ext cx="9159840" cy="136440"/>
                <a:chOff x="-3240" y="0"/>
                <a:chExt cx="9159840" cy="136440"/>
              </a:xfrm>
            </p:grpSpPr>
            <p:sp>
              <p:nvSpPr>
                <p:cNvPr id="656" name=""/>
                <p:cNvSpPr/>
                <p:nvPr/>
              </p:nvSpPr>
              <p:spPr>
                <a:xfrm>
                  <a:off x="-324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-324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58" name=""/>
              <p:cNvGrpSpPr/>
              <p:nvPr/>
            </p:nvGrpSpPr>
            <p:grpSpPr>
              <a:xfrm>
                <a:off x="4680" y="1219320"/>
                <a:ext cx="9144000" cy="210960"/>
                <a:chOff x="4680" y="1219320"/>
                <a:chExt cx="9144000" cy="210960"/>
              </a:xfrm>
            </p:grpSpPr>
            <p:sp>
              <p:nvSpPr>
                <p:cNvPr id="659" name=""/>
                <p:cNvSpPr/>
                <p:nvPr/>
              </p:nvSpPr>
              <p:spPr>
                <a:xfrm>
                  <a:off x="468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468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2.3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Earth’s Mo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736640" y="2644920"/>
            <a:ext cx="71121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st of the lunar surface is made up of densely pitted, light-colored areas known as highlan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"/>
          <p:cNvSpPr/>
          <p:nvPr/>
        </p:nvSpPr>
        <p:spPr>
          <a:xfrm>
            <a:off x="1260360" y="2163600"/>
            <a:ext cx="76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ighla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"/>
          <p:cNvSpPr/>
          <p:nvPr/>
        </p:nvSpPr>
        <p:spPr>
          <a:xfrm>
            <a:off x="1736640" y="3852720"/>
            <a:ext cx="7112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r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ancient beds of basaltic lava, originated when asteroids punctured the lunar surface, letting magma bleed ou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"/>
          <p:cNvSpPr/>
          <p:nvPr/>
        </p:nvSpPr>
        <p:spPr>
          <a:xfrm>
            <a:off x="1260360" y="3370320"/>
            <a:ext cx="76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a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"/>
          <p:cNvSpPr/>
          <p:nvPr/>
        </p:nvSpPr>
        <p:spPr>
          <a:xfrm>
            <a:off x="1736640" y="4919760"/>
            <a:ext cx="70772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il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s a long channel associated with lunar maria. A rille looks similar to a valley or a trenc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7" name=""/>
          <p:cNvGrpSpPr/>
          <p:nvPr/>
        </p:nvGrpSpPr>
        <p:grpSpPr>
          <a:xfrm>
            <a:off x="-3240" y="0"/>
            <a:ext cx="9159840" cy="6629400"/>
            <a:chOff x="-3240" y="0"/>
            <a:chExt cx="9159840" cy="6629400"/>
          </a:xfrm>
        </p:grpSpPr>
        <p:grpSp>
          <p:nvGrpSpPr>
            <p:cNvPr id="668" name=""/>
            <p:cNvGrpSpPr/>
            <p:nvPr/>
          </p:nvGrpSpPr>
          <p:grpSpPr>
            <a:xfrm>
              <a:off x="317520" y="1523880"/>
              <a:ext cx="8534160" cy="5105520"/>
              <a:chOff x="317520" y="1523880"/>
              <a:chExt cx="8534160" cy="5105520"/>
            </a:xfrm>
          </p:grpSpPr>
          <p:sp>
            <p:nvSpPr>
              <p:cNvPr id="669" name=""/>
              <p:cNvSpPr/>
              <p:nvPr/>
            </p:nvSpPr>
            <p:spPr>
              <a:xfrm>
                <a:off x="31752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022760" y="1638360"/>
                <a:ext cx="3748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The Lunar Surface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-3240" y="0"/>
              <a:ext cx="9159840" cy="1430280"/>
              <a:chOff x="-3240" y="0"/>
              <a:chExt cx="9159840" cy="1430280"/>
            </a:xfrm>
          </p:grpSpPr>
          <p:sp>
            <p:nvSpPr>
              <p:cNvPr id="672" name=""/>
              <p:cNvSpPr/>
              <p:nvPr/>
            </p:nvSpPr>
            <p:spPr>
              <a:xfrm>
                <a:off x="324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73" name=""/>
              <p:cNvGrpSpPr/>
              <p:nvPr/>
            </p:nvGrpSpPr>
            <p:grpSpPr>
              <a:xfrm>
                <a:off x="-3240" y="0"/>
                <a:ext cx="9159840" cy="136440"/>
                <a:chOff x="-3240" y="0"/>
                <a:chExt cx="9159840" cy="136440"/>
              </a:xfrm>
            </p:grpSpPr>
            <p:sp>
              <p:nvSpPr>
                <p:cNvPr id="674" name=""/>
                <p:cNvSpPr/>
                <p:nvPr/>
              </p:nvSpPr>
              <p:spPr>
                <a:xfrm>
                  <a:off x="-324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-324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76" name=""/>
              <p:cNvGrpSpPr/>
              <p:nvPr/>
            </p:nvGrpSpPr>
            <p:grpSpPr>
              <a:xfrm>
                <a:off x="4680" y="1219320"/>
                <a:ext cx="9144000" cy="210960"/>
                <a:chOff x="4680" y="1219320"/>
                <a:chExt cx="9144000" cy="21096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468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468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2.3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Earth’s Mo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736640" y="2646360"/>
            <a:ext cx="712476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lunar regoli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s a thin, gray layer on the surface of the moon, consisting of loosely compacted, fragmented material believed to have been formed by repeated impacts of meteori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1" name=""/>
          <p:cNvSpPr/>
          <p:nvPr/>
        </p:nvSpPr>
        <p:spPr>
          <a:xfrm>
            <a:off x="1260360" y="2163600"/>
            <a:ext cx="76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egol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2" name=""/>
          <p:cNvGrpSpPr/>
          <p:nvPr/>
        </p:nvGrpSpPr>
        <p:grpSpPr>
          <a:xfrm>
            <a:off x="0" y="0"/>
            <a:ext cx="9159840" cy="1430280"/>
            <a:chOff x="0" y="0"/>
            <a:chExt cx="9159840" cy="1430280"/>
          </a:xfrm>
        </p:grpSpPr>
        <p:sp>
          <p:nvSpPr>
            <p:cNvPr id="683" name=""/>
            <p:cNvSpPr/>
            <p:nvPr/>
          </p:nvSpPr>
          <p:spPr>
            <a:xfrm>
              <a:off x="648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84" name=""/>
            <p:cNvGrpSpPr/>
            <p:nvPr/>
          </p:nvGrpSpPr>
          <p:grpSpPr>
            <a:xfrm>
              <a:off x="0" y="0"/>
              <a:ext cx="9159840" cy="136440"/>
              <a:chOff x="0" y="0"/>
              <a:chExt cx="9159840" cy="136440"/>
            </a:xfrm>
          </p:grpSpPr>
          <p:sp>
            <p:nvSpPr>
              <p:cNvPr id="685" name=""/>
              <p:cNvSpPr/>
              <p:nvPr/>
            </p:nvSpPr>
            <p:spPr>
              <a:xfrm>
                <a:off x="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87" name=""/>
            <p:cNvGrpSpPr/>
            <p:nvPr/>
          </p:nvGrpSpPr>
          <p:grpSpPr>
            <a:xfrm>
              <a:off x="7920" y="1219320"/>
              <a:ext cx="9144000" cy="210960"/>
              <a:chOff x="7920" y="1219320"/>
              <a:chExt cx="9144000" cy="210960"/>
            </a:xfrm>
          </p:grpSpPr>
          <p:sp>
            <p:nvSpPr>
              <p:cNvPr id="688" name=""/>
              <p:cNvSpPr/>
              <p:nvPr/>
            </p:nvSpPr>
            <p:spPr>
              <a:xfrm>
                <a:off x="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0" y="2700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2979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jor Topographic Features of the Mo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298440" y="1592280"/>
            <a:ext cx="8547120" cy="5092560"/>
            <a:chOff x="298440" y="1592280"/>
            <a:chExt cx="8547120" cy="5092560"/>
          </a:xfrm>
        </p:grpSpPr>
        <p:sp>
          <p:nvSpPr>
            <p:cNvPr id="692" name=""/>
            <p:cNvSpPr/>
            <p:nvPr/>
          </p:nvSpPr>
          <p:spPr>
            <a:xfrm>
              <a:off x="298440" y="1592280"/>
              <a:ext cx="8547120" cy="5092560"/>
            </a:xfrm>
            <a:prstGeom prst="roundRect">
              <a:avLst>
                <a:gd name="adj" fmla="val 2213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693" name="" descr=""/>
            <p:cNvPicPr/>
            <p:nvPr/>
          </p:nvPicPr>
          <p:blipFill>
            <a:blip r:embed="rId1"/>
            <a:stretch/>
          </p:blipFill>
          <p:spPr>
            <a:xfrm>
              <a:off x="763560" y="1998720"/>
              <a:ext cx="7615440" cy="4281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4" name=""/>
          <p:cNvGrpSpPr/>
          <p:nvPr/>
        </p:nvGrpSpPr>
        <p:grpSpPr>
          <a:xfrm>
            <a:off x="-3240" y="0"/>
            <a:ext cx="9159840" cy="6629400"/>
            <a:chOff x="-3240" y="0"/>
            <a:chExt cx="9159840" cy="6629400"/>
          </a:xfrm>
        </p:grpSpPr>
        <p:grpSp>
          <p:nvGrpSpPr>
            <p:cNvPr id="695" name=""/>
            <p:cNvGrpSpPr/>
            <p:nvPr/>
          </p:nvGrpSpPr>
          <p:grpSpPr>
            <a:xfrm>
              <a:off x="317520" y="1523880"/>
              <a:ext cx="8534160" cy="5105520"/>
              <a:chOff x="317520" y="1523880"/>
              <a:chExt cx="8534160" cy="5105520"/>
            </a:xfrm>
          </p:grpSpPr>
          <p:sp>
            <p:nvSpPr>
              <p:cNvPr id="696" name=""/>
              <p:cNvSpPr/>
              <p:nvPr/>
            </p:nvSpPr>
            <p:spPr>
              <a:xfrm>
                <a:off x="31752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1021680" y="1638360"/>
                <a:ext cx="2823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Lunar History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98" name=""/>
            <p:cNvGrpSpPr/>
            <p:nvPr/>
          </p:nvGrpSpPr>
          <p:grpSpPr>
            <a:xfrm>
              <a:off x="-3240" y="0"/>
              <a:ext cx="9159840" cy="1430280"/>
              <a:chOff x="-3240" y="0"/>
              <a:chExt cx="9159840" cy="1430280"/>
            </a:xfrm>
          </p:grpSpPr>
          <p:sp>
            <p:nvSpPr>
              <p:cNvPr id="699" name=""/>
              <p:cNvSpPr/>
              <p:nvPr/>
            </p:nvSpPr>
            <p:spPr>
              <a:xfrm>
                <a:off x="324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00" name=""/>
              <p:cNvGrpSpPr/>
              <p:nvPr/>
            </p:nvGrpSpPr>
            <p:grpSpPr>
              <a:xfrm>
                <a:off x="-3240" y="0"/>
                <a:ext cx="9159840" cy="136440"/>
                <a:chOff x="-3240" y="0"/>
                <a:chExt cx="9159840" cy="136440"/>
              </a:xfrm>
            </p:grpSpPr>
            <p:sp>
              <p:nvSpPr>
                <p:cNvPr id="701" name=""/>
                <p:cNvSpPr/>
                <p:nvPr/>
              </p:nvSpPr>
              <p:spPr>
                <a:xfrm>
                  <a:off x="-324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-324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703" name=""/>
              <p:cNvGrpSpPr/>
              <p:nvPr/>
            </p:nvGrpSpPr>
            <p:grpSpPr>
              <a:xfrm>
                <a:off x="4680" y="1219320"/>
                <a:ext cx="9144000" cy="210960"/>
                <a:chOff x="4680" y="1219320"/>
                <a:chExt cx="9144000" cy="210960"/>
              </a:xfrm>
            </p:grpSpPr>
            <p:sp>
              <p:nvSpPr>
                <p:cNvPr id="704" name=""/>
                <p:cNvSpPr/>
                <p:nvPr/>
              </p:nvSpPr>
              <p:spPr>
                <a:xfrm>
                  <a:off x="468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468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2.3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 Earth’s Mo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260360" y="2176560"/>
            <a:ext cx="7534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most widely accepted model for the origin of the moon is that when the solar system was forming, a body the size of Mars impacted Earth. The resulting debris was ejected into space, began orbiting around Earth, and eventually united to form the mo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"/>
          <p:cNvGrpSpPr/>
          <p:nvPr/>
        </p:nvGrpSpPr>
        <p:grpSpPr>
          <a:xfrm>
            <a:off x="0" y="0"/>
            <a:ext cx="9159840" cy="1430280"/>
            <a:chOff x="0" y="0"/>
            <a:chExt cx="9159840" cy="1430280"/>
          </a:xfrm>
        </p:grpSpPr>
        <p:sp>
          <p:nvSpPr>
            <p:cNvPr id="709" name=""/>
            <p:cNvSpPr/>
            <p:nvPr/>
          </p:nvSpPr>
          <p:spPr>
            <a:xfrm>
              <a:off x="648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0" name=""/>
            <p:cNvGrpSpPr/>
            <p:nvPr/>
          </p:nvGrpSpPr>
          <p:grpSpPr>
            <a:xfrm>
              <a:off x="0" y="0"/>
              <a:ext cx="9159840" cy="136440"/>
              <a:chOff x="0" y="0"/>
              <a:chExt cx="9159840" cy="136440"/>
            </a:xfrm>
          </p:grpSpPr>
          <p:sp>
            <p:nvSpPr>
              <p:cNvPr id="711" name=""/>
              <p:cNvSpPr/>
              <p:nvPr/>
            </p:nvSpPr>
            <p:spPr>
              <a:xfrm>
                <a:off x="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7920" y="1219320"/>
              <a:ext cx="9144000" cy="210960"/>
              <a:chOff x="7920" y="1219320"/>
              <a:chExt cx="9144000" cy="210960"/>
            </a:xfrm>
          </p:grpSpPr>
          <p:sp>
            <p:nvSpPr>
              <p:cNvPr id="714" name=""/>
              <p:cNvSpPr/>
              <p:nvPr/>
            </p:nvSpPr>
            <p:spPr>
              <a:xfrm>
                <a:off x="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0" y="21924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2979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rmation of Earth’s Mo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361800" y="1871640"/>
            <a:ext cx="8420400" cy="4533840"/>
            <a:chOff x="361800" y="1871640"/>
            <a:chExt cx="8420400" cy="4533840"/>
          </a:xfrm>
        </p:grpSpPr>
        <p:sp>
          <p:nvSpPr>
            <p:cNvPr id="718" name=""/>
            <p:cNvSpPr/>
            <p:nvPr/>
          </p:nvSpPr>
          <p:spPr>
            <a:xfrm>
              <a:off x="361800" y="1871640"/>
              <a:ext cx="8420400" cy="4533840"/>
            </a:xfrm>
            <a:prstGeom prst="roundRect">
              <a:avLst>
                <a:gd name="adj" fmla="val 2213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719" name="" descr=""/>
            <p:cNvPicPr/>
            <p:nvPr/>
          </p:nvPicPr>
          <p:blipFill>
            <a:blip r:embed="rId1"/>
            <a:stretch/>
          </p:blipFill>
          <p:spPr>
            <a:xfrm>
              <a:off x="701640" y="2435400"/>
              <a:ext cx="7738920" cy="3404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0" y="0"/>
            <a:ext cx="9159840" cy="1430280"/>
            <a:chOff x="0" y="0"/>
            <a:chExt cx="9159840" cy="1430280"/>
          </a:xfrm>
        </p:grpSpPr>
        <p:sp>
          <p:nvSpPr>
            <p:cNvPr id="129" name=""/>
            <p:cNvSpPr/>
            <p:nvPr/>
          </p:nvSpPr>
          <p:spPr>
            <a:xfrm>
              <a:off x="648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0" y="0"/>
              <a:ext cx="9159840" cy="136440"/>
              <a:chOff x="0" y="0"/>
              <a:chExt cx="9159840" cy="136440"/>
            </a:xfrm>
          </p:grpSpPr>
          <p:sp>
            <p:nvSpPr>
              <p:cNvPr id="131" name=""/>
              <p:cNvSpPr/>
              <p:nvPr/>
            </p:nvSpPr>
            <p:spPr>
              <a:xfrm>
                <a:off x="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7920" y="1219320"/>
              <a:ext cx="9144000" cy="210960"/>
              <a:chOff x="7920" y="1219320"/>
              <a:chExt cx="9144000" cy="210960"/>
            </a:xfrm>
          </p:grpSpPr>
          <p:sp>
            <p:nvSpPr>
              <p:cNvPr id="134" name=""/>
              <p:cNvSpPr/>
              <p:nvPr/>
            </p:nvSpPr>
            <p:spPr>
              <a:xfrm>
                <a:off x="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4444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2979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alculating Earth’s Circumference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562040" y="1592280"/>
            <a:ext cx="6019920" cy="5092560"/>
            <a:chOff x="1562040" y="1592280"/>
            <a:chExt cx="6019920" cy="5092560"/>
          </a:xfrm>
        </p:grpSpPr>
        <p:sp>
          <p:nvSpPr>
            <p:cNvPr id="138" name=""/>
            <p:cNvSpPr/>
            <p:nvPr/>
          </p:nvSpPr>
          <p:spPr>
            <a:xfrm>
              <a:off x="1562040" y="1592280"/>
              <a:ext cx="6019920" cy="5092560"/>
            </a:xfrm>
            <a:prstGeom prst="roundRect">
              <a:avLst>
                <a:gd name="adj" fmla="val 2213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>
              <a:off x="2039760" y="1968480"/>
              <a:ext cx="5064480" cy="4340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-4680" y="0"/>
            <a:ext cx="9159840" cy="6629400"/>
            <a:chOff x="-4680" y="0"/>
            <a:chExt cx="9159840" cy="6629400"/>
          </a:xfrm>
        </p:grpSpPr>
        <p:grpSp>
          <p:nvGrpSpPr>
            <p:cNvPr id="141" name=""/>
            <p:cNvGrpSpPr/>
            <p:nvPr/>
          </p:nvGrpSpPr>
          <p:grpSpPr>
            <a:xfrm>
              <a:off x="316080" y="1523880"/>
              <a:ext cx="8534160" cy="5105520"/>
              <a:chOff x="316080" y="1523880"/>
              <a:chExt cx="8534160" cy="5105520"/>
            </a:xfrm>
          </p:grpSpPr>
          <p:sp>
            <p:nvSpPr>
              <p:cNvPr id="142" name=""/>
              <p:cNvSpPr/>
              <p:nvPr/>
            </p:nvSpPr>
            <p:spPr>
              <a:xfrm>
                <a:off x="31608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020960" y="1638360"/>
                <a:ext cx="3161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Ancient Greeks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-4680" y="0"/>
              <a:ext cx="9159840" cy="1430280"/>
              <a:chOff x="-4680" y="0"/>
              <a:chExt cx="9159840" cy="1430280"/>
            </a:xfrm>
          </p:grpSpPr>
          <p:sp>
            <p:nvSpPr>
              <p:cNvPr id="145" name=""/>
              <p:cNvSpPr/>
              <p:nvPr/>
            </p:nvSpPr>
            <p:spPr>
              <a:xfrm>
                <a:off x="180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46" name=""/>
              <p:cNvGrpSpPr/>
              <p:nvPr/>
            </p:nvGrpSpPr>
            <p:grpSpPr>
              <a:xfrm>
                <a:off x="-4680" y="0"/>
                <a:ext cx="9159840" cy="136440"/>
                <a:chOff x="-4680" y="0"/>
                <a:chExt cx="9159840" cy="13644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-468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-468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3240" y="1219320"/>
                <a:ext cx="9144000" cy="210960"/>
                <a:chOff x="3240" y="1219320"/>
                <a:chExt cx="9144000" cy="21096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324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24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2.1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 Early Astronomy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209600" y="2176560"/>
            <a:ext cx="76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Geocentric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1736640" y="2647800"/>
            <a:ext cx="706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 the ancient Greeks’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ocent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model, the moon, sun, and the known planets—Mercury, Venus, Mars, and Jupiter—orbit Eart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1209600" y="3813120"/>
            <a:ext cx="76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eliocentric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1736640" y="4297320"/>
            <a:ext cx="706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eliocent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model, Earth and the other planets orbit the su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0" y="0"/>
            <a:ext cx="9159840" cy="1430280"/>
            <a:chOff x="0" y="0"/>
            <a:chExt cx="9159840" cy="1430280"/>
          </a:xfrm>
        </p:grpSpPr>
        <p:sp>
          <p:nvSpPr>
            <p:cNvPr id="158" name=""/>
            <p:cNvSpPr/>
            <p:nvPr/>
          </p:nvSpPr>
          <p:spPr>
            <a:xfrm>
              <a:off x="648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0" y="0"/>
              <a:ext cx="9159840" cy="136440"/>
              <a:chOff x="0" y="0"/>
              <a:chExt cx="9159840" cy="136440"/>
            </a:xfrm>
          </p:grpSpPr>
          <p:sp>
            <p:nvSpPr>
              <p:cNvPr id="160" name=""/>
              <p:cNvSpPr/>
              <p:nvPr/>
            </p:nvSpPr>
            <p:spPr>
              <a:xfrm>
                <a:off x="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7920" y="1219320"/>
              <a:ext cx="9144000" cy="210960"/>
              <a:chOff x="7920" y="1219320"/>
              <a:chExt cx="9144000" cy="210960"/>
            </a:xfrm>
          </p:grpSpPr>
          <p:sp>
            <p:nvSpPr>
              <p:cNvPr id="163" name=""/>
              <p:cNvSpPr/>
              <p:nvPr/>
            </p:nvSpPr>
            <p:spPr>
              <a:xfrm>
                <a:off x="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24444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2979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eocentric and Heliocentric Mode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285840" y="1871640"/>
            <a:ext cx="8572320" cy="4508640"/>
            <a:chOff x="285840" y="1871640"/>
            <a:chExt cx="8572320" cy="4508640"/>
          </a:xfrm>
        </p:grpSpPr>
        <p:sp>
          <p:nvSpPr>
            <p:cNvPr id="167" name=""/>
            <p:cNvSpPr/>
            <p:nvPr/>
          </p:nvSpPr>
          <p:spPr>
            <a:xfrm>
              <a:off x="285840" y="1871640"/>
              <a:ext cx="8572320" cy="4508640"/>
            </a:xfrm>
            <a:prstGeom prst="roundRect">
              <a:avLst>
                <a:gd name="adj" fmla="val 2213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168" name="" descr=""/>
            <p:cNvPicPr/>
            <p:nvPr/>
          </p:nvPicPr>
          <p:blipFill>
            <a:blip r:embed="rId1"/>
            <a:stretch/>
          </p:blipFill>
          <p:spPr>
            <a:xfrm>
              <a:off x="546120" y="2440080"/>
              <a:ext cx="8050320" cy="337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"/>
          <p:cNvGrpSpPr/>
          <p:nvPr/>
        </p:nvGrpSpPr>
        <p:grpSpPr>
          <a:xfrm>
            <a:off x="-4680" y="0"/>
            <a:ext cx="9159840" cy="6629400"/>
            <a:chOff x="-4680" y="0"/>
            <a:chExt cx="9159840" cy="6629400"/>
          </a:xfrm>
        </p:grpSpPr>
        <p:grpSp>
          <p:nvGrpSpPr>
            <p:cNvPr id="170" name=""/>
            <p:cNvGrpSpPr/>
            <p:nvPr/>
          </p:nvGrpSpPr>
          <p:grpSpPr>
            <a:xfrm>
              <a:off x="316080" y="1523880"/>
              <a:ext cx="8534160" cy="5105520"/>
              <a:chOff x="316080" y="1523880"/>
              <a:chExt cx="8534160" cy="5105520"/>
            </a:xfrm>
          </p:grpSpPr>
          <p:sp>
            <p:nvSpPr>
              <p:cNvPr id="171" name=""/>
              <p:cNvSpPr/>
              <p:nvPr/>
            </p:nvSpPr>
            <p:spPr>
              <a:xfrm>
                <a:off x="31608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020960" y="1638360"/>
                <a:ext cx="3161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Ancient Greeks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-4680" y="0"/>
              <a:ext cx="9159840" cy="1430280"/>
              <a:chOff x="-4680" y="0"/>
              <a:chExt cx="9159840" cy="1430280"/>
            </a:xfrm>
          </p:grpSpPr>
          <p:sp>
            <p:nvSpPr>
              <p:cNvPr id="174" name=""/>
              <p:cNvSpPr/>
              <p:nvPr/>
            </p:nvSpPr>
            <p:spPr>
              <a:xfrm>
                <a:off x="180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-4680" y="0"/>
                <a:ext cx="9159840" cy="136440"/>
                <a:chOff x="-4680" y="0"/>
                <a:chExt cx="9159840" cy="1364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-468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-468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3240" y="1219320"/>
                <a:ext cx="9144000" cy="210960"/>
                <a:chOff x="3240" y="1219320"/>
                <a:chExt cx="9144000" cy="2109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324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324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600"/>
                </a:solidFill>
                <a:latin typeface="Arial"/>
                <a:ea typeface="Times New Roman"/>
              </a:rPr>
              <a:t>22.1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Early Astronomy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209600" y="2163600"/>
            <a:ext cx="76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tolemaic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1736640" y="2635200"/>
            <a:ext cx="708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tolemy created a model of the universe that accounted for the movement of the plane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1736640" y="3422520"/>
            <a:ext cx="708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trograde mo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s the apparent westward motion of the planets with respect to the sta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0" y="0"/>
            <a:ext cx="9159840" cy="1430280"/>
            <a:chOff x="0" y="0"/>
            <a:chExt cx="9159840" cy="1430280"/>
          </a:xfrm>
        </p:grpSpPr>
        <p:sp>
          <p:nvSpPr>
            <p:cNvPr id="186" name=""/>
            <p:cNvSpPr/>
            <p:nvPr/>
          </p:nvSpPr>
          <p:spPr>
            <a:xfrm>
              <a:off x="648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0" y="0"/>
              <a:ext cx="9159840" cy="136440"/>
              <a:chOff x="0" y="0"/>
              <a:chExt cx="9159840" cy="136440"/>
            </a:xfrm>
          </p:grpSpPr>
          <p:sp>
            <p:nvSpPr>
              <p:cNvPr id="188" name=""/>
              <p:cNvSpPr/>
              <p:nvPr/>
            </p:nvSpPr>
            <p:spPr>
              <a:xfrm>
                <a:off x="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7920" y="1219320"/>
              <a:ext cx="9144000" cy="210960"/>
              <a:chOff x="7920" y="1219320"/>
              <a:chExt cx="9144000" cy="210960"/>
            </a:xfrm>
          </p:grpSpPr>
          <p:sp>
            <p:nvSpPr>
              <p:cNvPr id="191" name=""/>
              <p:cNvSpPr/>
              <p:nvPr/>
            </p:nvSpPr>
            <p:spPr>
              <a:xfrm>
                <a:off x="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23184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2979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etrograde Mo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349200" y="2003400"/>
            <a:ext cx="8445600" cy="3911760"/>
            <a:chOff x="349200" y="2003400"/>
            <a:chExt cx="8445600" cy="3911760"/>
          </a:xfrm>
        </p:grpSpPr>
        <p:sp>
          <p:nvSpPr>
            <p:cNvPr id="195" name=""/>
            <p:cNvSpPr/>
            <p:nvPr/>
          </p:nvSpPr>
          <p:spPr>
            <a:xfrm>
              <a:off x="349200" y="2003400"/>
              <a:ext cx="8445600" cy="3911760"/>
            </a:xfrm>
            <a:prstGeom prst="roundRect">
              <a:avLst>
                <a:gd name="adj" fmla="val 2213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196" name="" descr=""/>
            <p:cNvPicPr/>
            <p:nvPr/>
          </p:nvPicPr>
          <p:blipFill>
            <a:blip r:embed="rId1"/>
            <a:stretch/>
          </p:blipFill>
          <p:spPr>
            <a:xfrm>
              <a:off x="582480" y="2567160"/>
              <a:ext cx="7979040" cy="2784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8T00:31:17Z</dcterms:created>
  <dc:creator>Stan &amp; Cindy Hatfield</dc:creator>
  <dc:description/>
  <dc:language>en-US</dc:language>
  <cp:lastModifiedBy>Navta 12</cp:lastModifiedBy>
  <cp:lastPrinted>2004-09-17T19:36:04Z</cp:lastPrinted>
  <dcterms:modified xsi:type="dcterms:W3CDTF">2004-11-01T16:24:36Z</dcterms:modified>
  <cp:revision>862</cp:revision>
  <dc:subject/>
  <dc:title>Volcanoes and Igneous Activity  Earth  -  Chapter 4</dc:title>
</cp:coreProperties>
</file>